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" name="Logo" descr=""/>
          <p:cNvPicPr/>
          <p:nvPr/>
        </p:nvPicPr>
        <p:blipFill>
          <a:blip r:embed="rId2"/>
          <a:stretch/>
        </p:blipFill>
        <p:spPr>
          <a:xfrm>
            <a:off x="76320" y="6218280"/>
            <a:ext cx="914400" cy="5983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478720" y="6242040"/>
            <a:ext cx="59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B60F4-921C-499B-88B5-64AF87B27488}" type="slidenum">
              <a:rPr b="0" lang="en-GB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048280" y="6410160"/>
            <a:ext cx="121932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April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71640" y="6404040"/>
            <a:ext cx="28954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60560" y="6281640"/>
            <a:ext cx="7458120" cy="93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39680" algn="ctr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01520" algn="ctr"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3360" algn="ctr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8192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 2000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3.9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Workshop - Case Stud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- Analysis Construc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17" name="RamCaseStudy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/>
          <p:nvPr/>
        </p:nvSpPr>
        <p:spPr>
          <a:xfrm>
            <a:off x="228600" y="5486400"/>
            <a:ext cx="4572000" cy="10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Ram Fr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analysis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20" name="DesignDataCaseStudy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/>
          <p:nvPr/>
        </p:nvSpPr>
        <p:spPr>
          <a:xfrm>
            <a:off x="228600" y="5486400"/>
            <a:ext cx="4572000" cy="10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esign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analysis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Nodes - pla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685880" y="1246320"/>
            <a:ext cx="190440" cy="19188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1"/>
                </a:lnTo>
                <a:lnTo>
                  <a:pt x="24" y="136"/>
                </a:lnTo>
                <a:lnTo>
                  <a:pt x="3" y="200"/>
                </a:lnTo>
                <a:lnTo>
                  <a:pt x="0" y="268"/>
                </a:lnTo>
                <a:lnTo>
                  <a:pt x="18" y="333"/>
                </a:lnTo>
                <a:lnTo>
                  <a:pt x="52" y="392"/>
                </a:lnTo>
                <a:lnTo>
                  <a:pt x="102" y="438"/>
                </a:lnTo>
                <a:lnTo>
                  <a:pt x="162" y="469"/>
                </a:lnTo>
                <a:lnTo>
                  <a:pt x="227" y="482"/>
                </a:lnTo>
                <a:lnTo>
                  <a:pt x="295" y="476"/>
                </a:lnTo>
                <a:lnTo>
                  <a:pt x="358" y="452"/>
                </a:lnTo>
                <a:lnTo>
                  <a:pt x="412" y="411"/>
                </a:lnTo>
                <a:lnTo>
                  <a:pt x="452" y="357"/>
                </a:lnTo>
                <a:lnTo>
                  <a:pt x="476" y="294"/>
                </a:lnTo>
                <a:lnTo>
                  <a:pt x="481" y="227"/>
                </a:lnTo>
                <a:lnTo>
                  <a:pt x="468" y="160"/>
                </a:lnTo>
                <a:lnTo>
                  <a:pt x="437" y="100"/>
                </a:lnTo>
                <a:lnTo>
                  <a:pt x="390" y="52"/>
                </a:lnTo>
                <a:lnTo>
                  <a:pt x="332" y="17"/>
                </a:lnTo>
                <a:lnTo>
                  <a:pt x="267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187960" y="1246320"/>
            <a:ext cx="190440" cy="19188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9"/>
                </a:lnTo>
                <a:lnTo>
                  <a:pt x="111" y="37"/>
                </a:lnTo>
                <a:lnTo>
                  <a:pt x="60" y="81"/>
                </a:lnTo>
                <a:lnTo>
                  <a:pt x="22" y="136"/>
                </a:lnTo>
                <a:lnTo>
                  <a:pt x="2" y="200"/>
                </a:lnTo>
                <a:lnTo>
                  <a:pt x="0" y="268"/>
                </a:lnTo>
                <a:lnTo>
                  <a:pt x="17" y="333"/>
                </a:lnTo>
                <a:lnTo>
                  <a:pt x="51" y="392"/>
                </a:lnTo>
                <a:lnTo>
                  <a:pt x="101" y="438"/>
                </a:lnTo>
                <a:lnTo>
                  <a:pt x="161" y="469"/>
                </a:lnTo>
                <a:lnTo>
                  <a:pt x="227" y="482"/>
                </a:lnTo>
                <a:lnTo>
                  <a:pt x="294" y="476"/>
                </a:lnTo>
                <a:lnTo>
                  <a:pt x="358" y="452"/>
                </a:lnTo>
                <a:lnTo>
                  <a:pt x="411" y="411"/>
                </a:lnTo>
                <a:lnTo>
                  <a:pt x="451" y="357"/>
                </a:lnTo>
                <a:lnTo>
                  <a:pt x="475" y="294"/>
                </a:lnTo>
                <a:lnTo>
                  <a:pt x="481" y="227"/>
                </a:lnTo>
                <a:lnTo>
                  <a:pt x="467" y="160"/>
                </a:lnTo>
                <a:lnTo>
                  <a:pt x="436" y="100"/>
                </a:lnTo>
                <a:lnTo>
                  <a:pt x="390" y="52"/>
                </a:lnTo>
                <a:lnTo>
                  <a:pt x="331" y="17"/>
                </a:lnTo>
                <a:lnTo>
                  <a:pt x="265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90040" y="1246320"/>
            <a:ext cx="190440" cy="19188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1"/>
                </a:lnTo>
                <a:lnTo>
                  <a:pt x="22" y="136"/>
                </a:lnTo>
                <a:lnTo>
                  <a:pt x="2" y="200"/>
                </a:lnTo>
                <a:lnTo>
                  <a:pt x="0" y="268"/>
                </a:lnTo>
                <a:lnTo>
                  <a:pt x="17" y="333"/>
                </a:lnTo>
                <a:lnTo>
                  <a:pt x="52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1" y="411"/>
                </a:lnTo>
                <a:lnTo>
                  <a:pt x="452" y="357"/>
                </a:lnTo>
                <a:lnTo>
                  <a:pt x="475" y="294"/>
                </a:lnTo>
                <a:lnTo>
                  <a:pt x="481" y="227"/>
                </a:lnTo>
                <a:lnTo>
                  <a:pt x="468" y="160"/>
                </a:lnTo>
                <a:lnTo>
                  <a:pt x="436" y="100"/>
                </a:lnTo>
                <a:lnTo>
                  <a:pt x="390" y="52"/>
                </a:lnTo>
                <a:lnTo>
                  <a:pt x="331" y="17"/>
                </a:lnTo>
                <a:lnTo>
                  <a:pt x="266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23280" y="1246320"/>
            <a:ext cx="190440" cy="19188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40" y="0"/>
                </a:moveTo>
                <a:lnTo>
                  <a:pt x="173" y="9"/>
                </a:lnTo>
                <a:lnTo>
                  <a:pt x="111" y="37"/>
                </a:lnTo>
                <a:lnTo>
                  <a:pt x="59" y="81"/>
                </a:lnTo>
                <a:lnTo>
                  <a:pt x="22" y="136"/>
                </a:lnTo>
                <a:lnTo>
                  <a:pt x="1" y="200"/>
                </a:lnTo>
                <a:lnTo>
                  <a:pt x="0" y="268"/>
                </a:lnTo>
                <a:lnTo>
                  <a:pt x="16" y="333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6" y="482"/>
                </a:lnTo>
                <a:lnTo>
                  <a:pt x="294" y="476"/>
                </a:lnTo>
                <a:lnTo>
                  <a:pt x="356" y="452"/>
                </a:lnTo>
                <a:lnTo>
                  <a:pt x="410" y="411"/>
                </a:lnTo>
                <a:lnTo>
                  <a:pt x="450" y="357"/>
                </a:lnTo>
                <a:lnTo>
                  <a:pt x="475" y="294"/>
                </a:lnTo>
                <a:lnTo>
                  <a:pt x="480" y="227"/>
                </a:lnTo>
                <a:lnTo>
                  <a:pt x="467" y="160"/>
                </a:lnTo>
                <a:lnTo>
                  <a:pt x="435" y="100"/>
                </a:lnTo>
                <a:lnTo>
                  <a:pt x="389" y="52"/>
                </a:lnTo>
                <a:lnTo>
                  <a:pt x="331" y="17"/>
                </a:lnTo>
                <a:lnTo>
                  <a:pt x="265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354720" y="1246320"/>
            <a:ext cx="192240" cy="19188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39" y="0"/>
                </a:moveTo>
                <a:lnTo>
                  <a:pt x="172" y="9"/>
                </a:lnTo>
                <a:lnTo>
                  <a:pt x="111" y="37"/>
                </a:lnTo>
                <a:lnTo>
                  <a:pt x="60" y="81"/>
                </a:lnTo>
                <a:lnTo>
                  <a:pt x="21" y="136"/>
                </a:lnTo>
                <a:lnTo>
                  <a:pt x="2" y="200"/>
                </a:lnTo>
                <a:lnTo>
                  <a:pt x="0" y="268"/>
                </a:lnTo>
                <a:lnTo>
                  <a:pt x="17" y="333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3" y="476"/>
                </a:lnTo>
                <a:lnTo>
                  <a:pt x="357" y="452"/>
                </a:lnTo>
                <a:lnTo>
                  <a:pt x="411" y="411"/>
                </a:lnTo>
                <a:lnTo>
                  <a:pt x="451" y="357"/>
                </a:lnTo>
                <a:lnTo>
                  <a:pt x="475" y="294"/>
                </a:lnTo>
                <a:lnTo>
                  <a:pt x="480" y="227"/>
                </a:lnTo>
                <a:lnTo>
                  <a:pt x="467" y="160"/>
                </a:lnTo>
                <a:lnTo>
                  <a:pt x="436" y="100"/>
                </a:lnTo>
                <a:lnTo>
                  <a:pt x="389" y="52"/>
                </a:lnTo>
                <a:lnTo>
                  <a:pt x="330" y="17"/>
                </a:lnTo>
                <a:lnTo>
                  <a:pt x="266" y="1"/>
                </a:lnTo>
                <a:lnTo>
                  <a:pt x="23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78400" y="1341360"/>
            <a:ext cx="97632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713720" y="1341360"/>
            <a:ext cx="97632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546960" y="1341360"/>
            <a:ext cx="97452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021200" y="1246320"/>
            <a:ext cx="190440" cy="19188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1"/>
                </a:lnTo>
                <a:lnTo>
                  <a:pt x="23" y="136"/>
                </a:lnTo>
                <a:lnTo>
                  <a:pt x="2" y="200"/>
                </a:lnTo>
                <a:lnTo>
                  <a:pt x="0" y="268"/>
                </a:lnTo>
                <a:lnTo>
                  <a:pt x="17" y="333"/>
                </a:lnTo>
                <a:lnTo>
                  <a:pt x="52" y="392"/>
                </a:lnTo>
                <a:lnTo>
                  <a:pt x="100" y="438"/>
                </a:lnTo>
                <a:lnTo>
                  <a:pt x="161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1" y="411"/>
                </a:lnTo>
                <a:lnTo>
                  <a:pt x="452" y="357"/>
                </a:lnTo>
                <a:lnTo>
                  <a:pt x="476" y="294"/>
                </a:lnTo>
                <a:lnTo>
                  <a:pt x="480" y="227"/>
                </a:lnTo>
                <a:lnTo>
                  <a:pt x="468" y="160"/>
                </a:lnTo>
                <a:lnTo>
                  <a:pt x="437" y="100"/>
                </a:lnTo>
                <a:lnTo>
                  <a:pt x="389" y="52"/>
                </a:lnTo>
                <a:lnTo>
                  <a:pt x="332" y="17"/>
                </a:lnTo>
                <a:lnTo>
                  <a:pt x="266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852640" y="1246320"/>
            <a:ext cx="190440" cy="19188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39" y="0"/>
                </a:moveTo>
                <a:lnTo>
                  <a:pt x="173" y="9"/>
                </a:lnTo>
                <a:lnTo>
                  <a:pt x="110" y="37"/>
                </a:lnTo>
                <a:lnTo>
                  <a:pt x="60" y="81"/>
                </a:lnTo>
                <a:lnTo>
                  <a:pt x="22" y="136"/>
                </a:lnTo>
                <a:lnTo>
                  <a:pt x="1" y="200"/>
                </a:lnTo>
                <a:lnTo>
                  <a:pt x="0" y="268"/>
                </a:lnTo>
                <a:lnTo>
                  <a:pt x="17" y="333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0" y="411"/>
                </a:lnTo>
                <a:lnTo>
                  <a:pt x="451" y="357"/>
                </a:lnTo>
                <a:lnTo>
                  <a:pt x="474" y="294"/>
                </a:lnTo>
                <a:lnTo>
                  <a:pt x="480" y="227"/>
                </a:lnTo>
                <a:lnTo>
                  <a:pt x="466" y="160"/>
                </a:lnTo>
                <a:lnTo>
                  <a:pt x="435" y="100"/>
                </a:lnTo>
                <a:lnTo>
                  <a:pt x="389" y="52"/>
                </a:lnTo>
                <a:lnTo>
                  <a:pt x="330" y="17"/>
                </a:lnTo>
                <a:lnTo>
                  <a:pt x="265" y="1"/>
                </a:lnTo>
                <a:lnTo>
                  <a:pt x="23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876320" y="1341360"/>
            <a:ext cx="97632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211640" y="1341360"/>
            <a:ext cx="97632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43080" y="1341360"/>
            <a:ext cx="97632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685880" y="4165560"/>
            <a:ext cx="190440" cy="192240"/>
          </a:xfrm>
          <a:custGeom>
            <a:avLst/>
            <a:gdLst/>
            <a:ahLst/>
            <a:rect l="l" t="t" r="r" b="b"/>
            <a:pathLst>
              <a:path w="481" h="483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0"/>
                </a:lnTo>
                <a:lnTo>
                  <a:pt x="24" y="137"/>
                </a:lnTo>
                <a:lnTo>
                  <a:pt x="3" y="201"/>
                </a:lnTo>
                <a:lnTo>
                  <a:pt x="0" y="268"/>
                </a:lnTo>
                <a:lnTo>
                  <a:pt x="18" y="334"/>
                </a:lnTo>
                <a:lnTo>
                  <a:pt x="52" y="393"/>
                </a:lnTo>
                <a:lnTo>
                  <a:pt x="102" y="439"/>
                </a:lnTo>
                <a:lnTo>
                  <a:pt x="162" y="469"/>
                </a:lnTo>
                <a:lnTo>
                  <a:pt x="227" y="483"/>
                </a:lnTo>
                <a:lnTo>
                  <a:pt x="295" y="477"/>
                </a:lnTo>
                <a:lnTo>
                  <a:pt x="358" y="453"/>
                </a:lnTo>
                <a:lnTo>
                  <a:pt x="412" y="411"/>
                </a:lnTo>
                <a:lnTo>
                  <a:pt x="452" y="357"/>
                </a:lnTo>
                <a:lnTo>
                  <a:pt x="476" y="295"/>
                </a:lnTo>
                <a:lnTo>
                  <a:pt x="481" y="227"/>
                </a:lnTo>
                <a:lnTo>
                  <a:pt x="468" y="161"/>
                </a:lnTo>
                <a:lnTo>
                  <a:pt x="437" y="101"/>
                </a:lnTo>
                <a:lnTo>
                  <a:pt x="390" y="52"/>
                </a:lnTo>
                <a:lnTo>
                  <a:pt x="332" y="18"/>
                </a:lnTo>
                <a:lnTo>
                  <a:pt x="267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87960" y="4165560"/>
            <a:ext cx="190440" cy="192240"/>
          </a:xfrm>
          <a:custGeom>
            <a:avLst/>
            <a:gdLst/>
            <a:ahLst/>
            <a:rect l="l" t="t" r="r" b="b"/>
            <a:pathLst>
              <a:path w="481" h="483">
                <a:moveTo>
                  <a:pt x="240" y="0"/>
                </a:moveTo>
                <a:lnTo>
                  <a:pt x="173" y="9"/>
                </a:lnTo>
                <a:lnTo>
                  <a:pt x="111" y="37"/>
                </a:lnTo>
                <a:lnTo>
                  <a:pt x="60" y="80"/>
                </a:lnTo>
                <a:lnTo>
                  <a:pt x="22" y="137"/>
                </a:lnTo>
                <a:lnTo>
                  <a:pt x="2" y="201"/>
                </a:lnTo>
                <a:lnTo>
                  <a:pt x="0" y="268"/>
                </a:lnTo>
                <a:lnTo>
                  <a:pt x="17" y="334"/>
                </a:lnTo>
                <a:lnTo>
                  <a:pt x="51" y="393"/>
                </a:lnTo>
                <a:lnTo>
                  <a:pt x="101" y="439"/>
                </a:lnTo>
                <a:lnTo>
                  <a:pt x="161" y="469"/>
                </a:lnTo>
                <a:lnTo>
                  <a:pt x="227" y="483"/>
                </a:lnTo>
                <a:lnTo>
                  <a:pt x="294" y="477"/>
                </a:lnTo>
                <a:lnTo>
                  <a:pt x="358" y="453"/>
                </a:lnTo>
                <a:lnTo>
                  <a:pt x="411" y="411"/>
                </a:lnTo>
                <a:lnTo>
                  <a:pt x="451" y="357"/>
                </a:lnTo>
                <a:lnTo>
                  <a:pt x="475" y="295"/>
                </a:lnTo>
                <a:lnTo>
                  <a:pt x="481" y="227"/>
                </a:lnTo>
                <a:lnTo>
                  <a:pt x="467" y="161"/>
                </a:lnTo>
                <a:lnTo>
                  <a:pt x="436" y="101"/>
                </a:lnTo>
                <a:lnTo>
                  <a:pt x="390" y="52"/>
                </a:lnTo>
                <a:lnTo>
                  <a:pt x="331" y="18"/>
                </a:lnTo>
                <a:lnTo>
                  <a:pt x="265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690040" y="4165560"/>
            <a:ext cx="190440" cy="192240"/>
          </a:xfrm>
          <a:custGeom>
            <a:avLst/>
            <a:gdLst/>
            <a:ahLst/>
            <a:rect l="l" t="t" r="r" b="b"/>
            <a:pathLst>
              <a:path w="481" h="483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0"/>
                </a:lnTo>
                <a:lnTo>
                  <a:pt x="22" y="137"/>
                </a:lnTo>
                <a:lnTo>
                  <a:pt x="2" y="201"/>
                </a:lnTo>
                <a:lnTo>
                  <a:pt x="0" y="268"/>
                </a:lnTo>
                <a:lnTo>
                  <a:pt x="17" y="334"/>
                </a:lnTo>
                <a:lnTo>
                  <a:pt x="52" y="393"/>
                </a:lnTo>
                <a:lnTo>
                  <a:pt x="100" y="439"/>
                </a:lnTo>
                <a:lnTo>
                  <a:pt x="160" y="469"/>
                </a:lnTo>
                <a:lnTo>
                  <a:pt x="227" y="483"/>
                </a:lnTo>
                <a:lnTo>
                  <a:pt x="294" y="477"/>
                </a:lnTo>
                <a:lnTo>
                  <a:pt x="357" y="453"/>
                </a:lnTo>
                <a:lnTo>
                  <a:pt x="411" y="411"/>
                </a:lnTo>
                <a:lnTo>
                  <a:pt x="452" y="357"/>
                </a:lnTo>
                <a:lnTo>
                  <a:pt x="475" y="295"/>
                </a:lnTo>
                <a:lnTo>
                  <a:pt x="481" y="227"/>
                </a:lnTo>
                <a:lnTo>
                  <a:pt x="468" y="161"/>
                </a:lnTo>
                <a:lnTo>
                  <a:pt x="436" y="101"/>
                </a:lnTo>
                <a:lnTo>
                  <a:pt x="390" y="52"/>
                </a:lnTo>
                <a:lnTo>
                  <a:pt x="331" y="18"/>
                </a:lnTo>
                <a:lnTo>
                  <a:pt x="266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523280" y="4165560"/>
            <a:ext cx="190440" cy="192240"/>
          </a:xfrm>
          <a:custGeom>
            <a:avLst/>
            <a:gdLst/>
            <a:ahLst/>
            <a:rect l="l" t="t" r="r" b="b"/>
            <a:pathLst>
              <a:path w="480" h="483">
                <a:moveTo>
                  <a:pt x="240" y="0"/>
                </a:moveTo>
                <a:lnTo>
                  <a:pt x="173" y="9"/>
                </a:lnTo>
                <a:lnTo>
                  <a:pt x="111" y="37"/>
                </a:lnTo>
                <a:lnTo>
                  <a:pt x="59" y="80"/>
                </a:lnTo>
                <a:lnTo>
                  <a:pt x="22" y="137"/>
                </a:lnTo>
                <a:lnTo>
                  <a:pt x="1" y="201"/>
                </a:lnTo>
                <a:lnTo>
                  <a:pt x="0" y="268"/>
                </a:lnTo>
                <a:lnTo>
                  <a:pt x="16" y="334"/>
                </a:lnTo>
                <a:lnTo>
                  <a:pt x="51" y="393"/>
                </a:lnTo>
                <a:lnTo>
                  <a:pt x="100" y="439"/>
                </a:lnTo>
                <a:lnTo>
                  <a:pt x="160" y="469"/>
                </a:lnTo>
                <a:lnTo>
                  <a:pt x="226" y="483"/>
                </a:lnTo>
                <a:lnTo>
                  <a:pt x="294" y="477"/>
                </a:lnTo>
                <a:lnTo>
                  <a:pt x="356" y="453"/>
                </a:lnTo>
                <a:lnTo>
                  <a:pt x="410" y="411"/>
                </a:lnTo>
                <a:lnTo>
                  <a:pt x="450" y="357"/>
                </a:lnTo>
                <a:lnTo>
                  <a:pt x="475" y="295"/>
                </a:lnTo>
                <a:lnTo>
                  <a:pt x="480" y="227"/>
                </a:lnTo>
                <a:lnTo>
                  <a:pt x="467" y="161"/>
                </a:lnTo>
                <a:lnTo>
                  <a:pt x="435" y="101"/>
                </a:lnTo>
                <a:lnTo>
                  <a:pt x="389" y="52"/>
                </a:lnTo>
                <a:lnTo>
                  <a:pt x="331" y="18"/>
                </a:lnTo>
                <a:lnTo>
                  <a:pt x="265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54720" y="4165560"/>
            <a:ext cx="192240" cy="192240"/>
          </a:xfrm>
          <a:custGeom>
            <a:avLst/>
            <a:gdLst/>
            <a:ahLst/>
            <a:rect l="l" t="t" r="r" b="b"/>
            <a:pathLst>
              <a:path w="480" h="483">
                <a:moveTo>
                  <a:pt x="239" y="0"/>
                </a:moveTo>
                <a:lnTo>
                  <a:pt x="172" y="9"/>
                </a:lnTo>
                <a:lnTo>
                  <a:pt x="111" y="37"/>
                </a:lnTo>
                <a:lnTo>
                  <a:pt x="60" y="80"/>
                </a:lnTo>
                <a:lnTo>
                  <a:pt x="21" y="137"/>
                </a:lnTo>
                <a:lnTo>
                  <a:pt x="2" y="201"/>
                </a:lnTo>
                <a:lnTo>
                  <a:pt x="0" y="268"/>
                </a:lnTo>
                <a:lnTo>
                  <a:pt x="17" y="334"/>
                </a:lnTo>
                <a:lnTo>
                  <a:pt x="51" y="393"/>
                </a:lnTo>
                <a:lnTo>
                  <a:pt x="100" y="439"/>
                </a:lnTo>
                <a:lnTo>
                  <a:pt x="160" y="469"/>
                </a:lnTo>
                <a:lnTo>
                  <a:pt x="227" y="483"/>
                </a:lnTo>
                <a:lnTo>
                  <a:pt x="293" y="477"/>
                </a:lnTo>
                <a:lnTo>
                  <a:pt x="357" y="453"/>
                </a:lnTo>
                <a:lnTo>
                  <a:pt x="411" y="411"/>
                </a:lnTo>
                <a:lnTo>
                  <a:pt x="451" y="357"/>
                </a:lnTo>
                <a:lnTo>
                  <a:pt x="475" y="295"/>
                </a:lnTo>
                <a:lnTo>
                  <a:pt x="480" y="227"/>
                </a:lnTo>
                <a:lnTo>
                  <a:pt x="467" y="161"/>
                </a:lnTo>
                <a:lnTo>
                  <a:pt x="436" y="101"/>
                </a:lnTo>
                <a:lnTo>
                  <a:pt x="389" y="52"/>
                </a:lnTo>
                <a:lnTo>
                  <a:pt x="330" y="18"/>
                </a:lnTo>
                <a:lnTo>
                  <a:pt x="266" y="1"/>
                </a:lnTo>
                <a:lnTo>
                  <a:pt x="23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13720" y="4260960"/>
            <a:ext cx="97632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546960" y="4260960"/>
            <a:ext cx="97452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21200" y="4165560"/>
            <a:ext cx="190440" cy="192240"/>
          </a:xfrm>
          <a:custGeom>
            <a:avLst/>
            <a:gdLst/>
            <a:ahLst/>
            <a:rect l="l" t="t" r="r" b="b"/>
            <a:pathLst>
              <a:path w="480" h="483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0"/>
                </a:lnTo>
                <a:lnTo>
                  <a:pt x="23" y="137"/>
                </a:lnTo>
                <a:lnTo>
                  <a:pt x="2" y="201"/>
                </a:lnTo>
                <a:lnTo>
                  <a:pt x="0" y="268"/>
                </a:lnTo>
                <a:lnTo>
                  <a:pt x="17" y="334"/>
                </a:lnTo>
                <a:lnTo>
                  <a:pt x="52" y="393"/>
                </a:lnTo>
                <a:lnTo>
                  <a:pt x="100" y="439"/>
                </a:lnTo>
                <a:lnTo>
                  <a:pt x="161" y="469"/>
                </a:lnTo>
                <a:lnTo>
                  <a:pt x="227" y="483"/>
                </a:lnTo>
                <a:lnTo>
                  <a:pt x="294" y="477"/>
                </a:lnTo>
                <a:lnTo>
                  <a:pt x="357" y="453"/>
                </a:lnTo>
                <a:lnTo>
                  <a:pt x="411" y="411"/>
                </a:lnTo>
                <a:lnTo>
                  <a:pt x="452" y="357"/>
                </a:lnTo>
                <a:lnTo>
                  <a:pt x="476" y="295"/>
                </a:lnTo>
                <a:lnTo>
                  <a:pt x="480" y="227"/>
                </a:lnTo>
                <a:lnTo>
                  <a:pt x="468" y="161"/>
                </a:lnTo>
                <a:lnTo>
                  <a:pt x="437" y="101"/>
                </a:lnTo>
                <a:lnTo>
                  <a:pt x="389" y="52"/>
                </a:lnTo>
                <a:lnTo>
                  <a:pt x="332" y="18"/>
                </a:lnTo>
                <a:lnTo>
                  <a:pt x="266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852640" y="4165560"/>
            <a:ext cx="190440" cy="192240"/>
          </a:xfrm>
          <a:custGeom>
            <a:avLst/>
            <a:gdLst/>
            <a:ahLst/>
            <a:rect l="l" t="t" r="r" b="b"/>
            <a:pathLst>
              <a:path w="480" h="483">
                <a:moveTo>
                  <a:pt x="239" y="0"/>
                </a:moveTo>
                <a:lnTo>
                  <a:pt x="173" y="9"/>
                </a:lnTo>
                <a:lnTo>
                  <a:pt x="110" y="37"/>
                </a:lnTo>
                <a:lnTo>
                  <a:pt x="60" y="80"/>
                </a:lnTo>
                <a:lnTo>
                  <a:pt x="22" y="137"/>
                </a:lnTo>
                <a:lnTo>
                  <a:pt x="1" y="201"/>
                </a:lnTo>
                <a:lnTo>
                  <a:pt x="0" y="268"/>
                </a:lnTo>
                <a:lnTo>
                  <a:pt x="17" y="334"/>
                </a:lnTo>
                <a:lnTo>
                  <a:pt x="51" y="393"/>
                </a:lnTo>
                <a:lnTo>
                  <a:pt x="100" y="439"/>
                </a:lnTo>
                <a:lnTo>
                  <a:pt x="160" y="469"/>
                </a:lnTo>
                <a:lnTo>
                  <a:pt x="227" y="483"/>
                </a:lnTo>
                <a:lnTo>
                  <a:pt x="294" y="477"/>
                </a:lnTo>
                <a:lnTo>
                  <a:pt x="357" y="453"/>
                </a:lnTo>
                <a:lnTo>
                  <a:pt x="410" y="411"/>
                </a:lnTo>
                <a:lnTo>
                  <a:pt x="451" y="357"/>
                </a:lnTo>
                <a:lnTo>
                  <a:pt x="474" y="295"/>
                </a:lnTo>
                <a:lnTo>
                  <a:pt x="480" y="227"/>
                </a:lnTo>
                <a:lnTo>
                  <a:pt x="466" y="161"/>
                </a:lnTo>
                <a:lnTo>
                  <a:pt x="435" y="101"/>
                </a:lnTo>
                <a:lnTo>
                  <a:pt x="389" y="52"/>
                </a:lnTo>
                <a:lnTo>
                  <a:pt x="330" y="18"/>
                </a:lnTo>
                <a:lnTo>
                  <a:pt x="265" y="1"/>
                </a:lnTo>
                <a:lnTo>
                  <a:pt x="23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76320" y="4260960"/>
            <a:ext cx="97632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211640" y="4260960"/>
            <a:ext cx="97632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43080" y="4260960"/>
            <a:ext cx="97632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1781280" y="1438200"/>
            <a:ext cx="1440" cy="2727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8785080" y="1438200"/>
            <a:ext cx="1800" cy="2727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523280" y="3191040"/>
            <a:ext cx="190440" cy="191880"/>
          </a:xfrm>
          <a:custGeom>
            <a:avLst/>
            <a:gdLst/>
            <a:ahLst/>
            <a:rect l="l" t="t" r="r" b="b"/>
            <a:pathLst>
              <a:path w="480" h="483">
                <a:moveTo>
                  <a:pt x="240" y="0"/>
                </a:moveTo>
                <a:lnTo>
                  <a:pt x="173" y="10"/>
                </a:lnTo>
                <a:lnTo>
                  <a:pt x="111" y="37"/>
                </a:lnTo>
                <a:lnTo>
                  <a:pt x="59" y="81"/>
                </a:lnTo>
                <a:lnTo>
                  <a:pt x="22" y="138"/>
                </a:lnTo>
                <a:lnTo>
                  <a:pt x="1" y="202"/>
                </a:lnTo>
                <a:lnTo>
                  <a:pt x="0" y="269"/>
                </a:lnTo>
                <a:lnTo>
                  <a:pt x="16" y="335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6" y="483"/>
                </a:lnTo>
                <a:lnTo>
                  <a:pt x="294" y="476"/>
                </a:lnTo>
                <a:lnTo>
                  <a:pt x="356" y="452"/>
                </a:lnTo>
                <a:lnTo>
                  <a:pt x="410" y="412"/>
                </a:lnTo>
                <a:lnTo>
                  <a:pt x="450" y="358"/>
                </a:lnTo>
                <a:lnTo>
                  <a:pt x="475" y="294"/>
                </a:lnTo>
                <a:lnTo>
                  <a:pt x="480" y="227"/>
                </a:lnTo>
                <a:lnTo>
                  <a:pt x="467" y="161"/>
                </a:lnTo>
                <a:lnTo>
                  <a:pt x="435" y="102"/>
                </a:lnTo>
                <a:lnTo>
                  <a:pt x="389" y="52"/>
                </a:lnTo>
                <a:lnTo>
                  <a:pt x="331" y="19"/>
                </a:lnTo>
                <a:lnTo>
                  <a:pt x="265" y="2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852640" y="3191040"/>
            <a:ext cx="190440" cy="191880"/>
          </a:xfrm>
          <a:custGeom>
            <a:avLst/>
            <a:gdLst/>
            <a:ahLst/>
            <a:rect l="l" t="t" r="r" b="b"/>
            <a:pathLst>
              <a:path w="480" h="483">
                <a:moveTo>
                  <a:pt x="239" y="0"/>
                </a:moveTo>
                <a:lnTo>
                  <a:pt x="173" y="10"/>
                </a:lnTo>
                <a:lnTo>
                  <a:pt x="110" y="37"/>
                </a:lnTo>
                <a:lnTo>
                  <a:pt x="60" y="81"/>
                </a:lnTo>
                <a:lnTo>
                  <a:pt x="22" y="138"/>
                </a:lnTo>
                <a:lnTo>
                  <a:pt x="1" y="202"/>
                </a:lnTo>
                <a:lnTo>
                  <a:pt x="0" y="269"/>
                </a:lnTo>
                <a:lnTo>
                  <a:pt x="17" y="335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3"/>
                </a:lnTo>
                <a:lnTo>
                  <a:pt x="294" y="476"/>
                </a:lnTo>
                <a:lnTo>
                  <a:pt x="357" y="452"/>
                </a:lnTo>
                <a:lnTo>
                  <a:pt x="410" y="412"/>
                </a:lnTo>
                <a:lnTo>
                  <a:pt x="451" y="358"/>
                </a:lnTo>
                <a:lnTo>
                  <a:pt x="474" y="294"/>
                </a:lnTo>
                <a:lnTo>
                  <a:pt x="480" y="227"/>
                </a:lnTo>
                <a:lnTo>
                  <a:pt x="466" y="161"/>
                </a:lnTo>
                <a:lnTo>
                  <a:pt x="435" y="102"/>
                </a:lnTo>
                <a:lnTo>
                  <a:pt x="389" y="52"/>
                </a:lnTo>
                <a:lnTo>
                  <a:pt x="330" y="19"/>
                </a:lnTo>
                <a:lnTo>
                  <a:pt x="265" y="2"/>
                </a:lnTo>
                <a:lnTo>
                  <a:pt x="23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354720" y="2220840"/>
            <a:ext cx="192240" cy="19044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39" y="0"/>
                </a:moveTo>
                <a:lnTo>
                  <a:pt x="172" y="9"/>
                </a:lnTo>
                <a:lnTo>
                  <a:pt x="111" y="37"/>
                </a:lnTo>
                <a:lnTo>
                  <a:pt x="60" y="81"/>
                </a:lnTo>
                <a:lnTo>
                  <a:pt x="21" y="137"/>
                </a:lnTo>
                <a:lnTo>
                  <a:pt x="2" y="201"/>
                </a:lnTo>
                <a:lnTo>
                  <a:pt x="0" y="269"/>
                </a:lnTo>
                <a:lnTo>
                  <a:pt x="17" y="334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3" y="476"/>
                </a:lnTo>
                <a:lnTo>
                  <a:pt x="357" y="452"/>
                </a:lnTo>
                <a:lnTo>
                  <a:pt x="411" y="412"/>
                </a:lnTo>
                <a:lnTo>
                  <a:pt x="451" y="357"/>
                </a:lnTo>
                <a:lnTo>
                  <a:pt x="475" y="294"/>
                </a:lnTo>
                <a:lnTo>
                  <a:pt x="480" y="227"/>
                </a:lnTo>
                <a:lnTo>
                  <a:pt x="467" y="160"/>
                </a:lnTo>
                <a:lnTo>
                  <a:pt x="436" y="101"/>
                </a:lnTo>
                <a:lnTo>
                  <a:pt x="389" y="52"/>
                </a:lnTo>
                <a:lnTo>
                  <a:pt x="330" y="18"/>
                </a:lnTo>
                <a:lnTo>
                  <a:pt x="266" y="1"/>
                </a:lnTo>
                <a:lnTo>
                  <a:pt x="23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021200" y="2220840"/>
            <a:ext cx="190440" cy="19044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1"/>
                </a:lnTo>
                <a:lnTo>
                  <a:pt x="23" y="137"/>
                </a:lnTo>
                <a:lnTo>
                  <a:pt x="2" y="201"/>
                </a:lnTo>
                <a:lnTo>
                  <a:pt x="0" y="269"/>
                </a:lnTo>
                <a:lnTo>
                  <a:pt x="17" y="334"/>
                </a:lnTo>
                <a:lnTo>
                  <a:pt x="52" y="392"/>
                </a:lnTo>
                <a:lnTo>
                  <a:pt x="100" y="438"/>
                </a:lnTo>
                <a:lnTo>
                  <a:pt x="161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1" y="412"/>
                </a:lnTo>
                <a:lnTo>
                  <a:pt x="452" y="357"/>
                </a:lnTo>
                <a:lnTo>
                  <a:pt x="476" y="294"/>
                </a:lnTo>
                <a:lnTo>
                  <a:pt x="480" y="227"/>
                </a:lnTo>
                <a:lnTo>
                  <a:pt x="468" y="160"/>
                </a:lnTo>
                <a:lnTo>
                  <a:pt x="437" y="101"/>
                </a:lnTo>
                <a:lnTo>
                  <a:pt x="389" y="52"/>
                </a:lnTo>
                <a:lnTo>
                  <a:pt x="332" y="18"/>
                </a:lnTo>
                <a:lnTo>
                  <a:pt x="266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114800" y="2414160"/>
            <a:ext cx="1440" cy="17319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4114800" y="1456920"/>
            <a:ext cx="1440" cy="7635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4195800" y="1405080"/>
            <a:ext cx="1015920" cy="846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020760" y="2378160"/>
            <a:ext cx="1020600" cy="847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852560" y="3348000"/>
            <a:ext cx="1022400" cy="8510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48040" y="3382560"/>
            <a:ext cx="1440" cy="7635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2948040" y="1457280"/>
            <a:ext cx="1440" cy="1733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354640" y="1405080"/>
            <a:ext cx="1022400" cy="849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524640" y="2378160"/>
            <a:ext cx="1020600" cy="849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96080" y="3352680"/>
            <a:ext cx="1017720" cy="846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7618320" y="3382560"/>
            <a:ext cx="1800" cy="7635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7618320" y="1457280"/>
            <a:ext cx="1800" cy="1733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6450120" y="2412720"/>
            <a:ext cx="1440" cy="17334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450120" y="1456920"/>
            <a:ext cx="1440" cy="7635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83360" y="1438200"/>
            <a:ext cx="1440" cy="2727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836440" y="435132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004640" y="435132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4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338520" y="435132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5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506720" y="435132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6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78400" y="4260960"/>
            <a:ext cx="97632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625400" y="43513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4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60240" y="456552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7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168520" y="43513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5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103360" y="456552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2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670600" y="43513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6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605440" y="456552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3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81280" y="5108400"/>
            <a:ext cx="1440" cy="193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695240" y="54151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680560" y="541512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2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849120" y="541512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4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015880" y="541512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36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184440" y="541512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48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351200" y="541512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60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517960" y="541512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72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5284800" y="5073480"/>
            <a:ext cx="15840" cy="228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785080" y="5108400"/>
            <a:ext cx="1800" cy="193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8785080" y="5334120"/>
            <a:ext cx="1800" cy="237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836440" y="77328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7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004640" y="77328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8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338520" y="77328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9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506720" y="77328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69680" y="70344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669680" y="91908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7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171760" y="73836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171760" y="95400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8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656200" y="70344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656200" y="91908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9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476080" y="310212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644280" y="213048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783200" y="305928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4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614640" y="208908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328680" y="5349960"/>
            <a:ext cx="1611360" cy="691560"/>
            <a:chOff x="328680" y="5349960"/>
            <a:chExt cx="1611360" cy="691560"/>
          </a:xfrm>
        </p:grpSpPr>
        <p:sp>
          <p:nvSpPr>
            <p:cNvPr id="173" name=""/>
            <p:cNvSpPr/>
            <p:nvPr/>
          </p:nvSpPr>
          <p:spPr>
            <a:xfrm>
              <a:off x="328680" y="5349960"/>
              <a:ext cx="158760" cy="215640"/>
            </a:xfrm>
            <a:custGeom>
              <a:avLst/>
              <a:gdLst/>
              <a:ahLst/>
              <a:rect l="l" t="t" r="r" b="b"/>
              <a:pathLst>
                <a:path w="396" h="545">
                  <a:moveTo>
                    <a:pt x="198" y="0"/>
                  </a:moveTo>
                  <a:lnTo>
                    <a:pt x="396" y="545"/>
                  </a:lnTo>
                  <a:lnTo>
                    <a:pt x="198" y="273"/>
                  </a:lnTo>
                  <a:lnTo>
                    <a:pt x="0" y="545"/>
                  </a:lnTo>
                  <a:lnTo>
                    <a:pt x="19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08240" y="5349960"/>
              <a:ext cx="1440" cy="6127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08240" y="5962680"/>
              <a:ext cx="144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724040" y="5884920"/>
              <a:ext cx="216000" cy="156600"/>
            </a:xfrm>
            <a:custGeom>
              <a:avLst/>
              <a:gdLst/>
              <a:ahLst/>
              <a:rect l="l" t="t" r="r" b="b"/>
              <a:pathLst>
                <a:path w="544" h="397">
                  <a:moveTo>
                    <a:pt x="544" y="198"/>
                  </a:moveTo>
                  <a:lnTo>
                    <a:pt x="0" y="397"/>
                  </a:lnTo>
                  <a:lnTo>
                    <a:pt x="272" y="198"/>
                  </a:lnTo>
                  <a:lnTo>
                    <a:pt x="0" y="0"/>
                  </a:lnTo>
                  <a:lnTo>
                    <a:pt x="544" y="19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>
              <a:off x="407880" y="5962680"/>
              <a:ext cx="1531800" cy="10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08240" y="5962680"/>
              <a:ext cx="144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2170440" y="5786280"/>
            <a:ext cx="186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Univers"/>
              </a:rPr>
              <a:t>X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21480" y="4816440"/>
            <a:ext cx="1807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Univers"/>
              </a:rPr>
              <a:t>Y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906480" y="4260960"/>
            <a:ext cx="1936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51040" y="4260960"/>
            <a:ext cx="237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906480" y="1341360"/>
            <a:ext cx="1936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51040" y="1341360"/>
            <a:ext cx="23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61520" y="41353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02600" y="121608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30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906480" y="2314440"/>
            <a:ext cx="1936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51040" y="2314440"/>
            <a:ext cx="23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906480" y="3287880"/>
            <a:ext cx="1936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51040" y="3287880"/>
            <a:ext cx="237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02600" y="218916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0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02600" y="316224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0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Nodes - elev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09640" y="5062680"/>
            <a:ext cx="190440" cy="19044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1"/>
                </a:lnTo>
                <a:lnTo>
                  <a:pt x="24" y="136"/>
                </a:lnTo>
                <a:lnTo>
                  <a:pt x="3" y="201"/>
                </a:lnTo>
                <a:lnTo>
                  <a:pt x="0" y="269"/>
                </a:lnTo>
                <a:lnTo>
                  <a:pt x="18" y="333"/>
                </a:lnTo>
                <a:lnTo>
                  <a:pt x="52" y="392"/>
                </a:lnTo>
                <a:lnTo>
                  <a:pt x="102" y="438"/>
                </a:lnTo>
                <a:lnTo>
                  <a:pt x="162" y="469"/>
                </a:lnTo>
                <a:lnTo>
                  <a:pt x="227" y="482"/>
                </a:lnTo>
                <a:lnTo>
                  <a:pt x="295" y="476"/>
                </a:lnTo>
                <a:lnTo>
                  <a:pt x="358" y="452"/>
                </a:lnTo>
                <a:lnTo>
                  <a:pt x="412" y="412"/>
                </a:lnTo>
                <a:lnTo>
                  <a:pt x="452" y="357"/>
                </a:lnTo>
                <a:lnTo>
                  <a:pt x="476" y="294"/>
                </a:lnTo>
                <a:lnTo>
                  <a:pt x="481" y="226"/>
                </a:lnTo>
                <a:lnTo>
                  <a:pt x="468" y="160"/>
                </a:lnTo>
                <a:lnTo>
                  <a:pt x="437" y="100"/>
                </a:lnTo>
                <a:lnTo>
                  <a:pt x="390" y="52"/>
                </a:lnTo>
                <a:lnTo>
                  <a:pt x="332" y="17"/>
                </a:lnTo>
                <a:lnTo>
                  <a:pt x="267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211720" y="5062680"/>
            <a:ext cx="190440" cy="19044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9"/>
                </a:lnTo>
                <a:lnTo>
                  <a:pt x="111" y="37"/>
                </a:lnTo>
                <a:lnTo>
                  <a:pt x="60" y="81"/>
                </a:lnTo>
                <a:lnTo>
                  <a:pt x="22" y="136"/>
                </a:lnTo>
                <a:lnTo>
                  <a:pt x="2" y="201"/>
                </a:lnTo>
                <a:lnTo>
                  <a:pt x="0" y="269"/>
                </a:lnTo>
                <a:lnTo>
                  <a:pt x="17" y="333"/>
                </a:lnTo>
                <a:lnTo>
                  <a:pt x="51" y="392"/>
                </a:lnTo>
                <a:lnTo>
                  <a:pt x="101" y="438"/>
                </a:lnTo>
                <a:lnTo>
                  <a:pt x="161" y="469"/>
                </a:lnTo>
                <a:lnTo>
                  <a:pt x="227" y="482"/>
                </a:lnTo>
                <a:lnTo>
                  <a:pt x="294" y="476"/>
                </a:lnTo>
                <a:lnTo>
                  <a:pt x="358" y="452"/>
                </a:lnTo>
                <a:lnTo>
                  <a:pt x="411" y="412"/>
                </a:lnTo>
                <a:lnTo>
                  <a:pt x="451" y="357"/>
                </a:lnTo>
                <a:lnTo>
                  <a:pt x="475" y="294"/>
                </a:lnTo>
                <a:lnTo>
                  <a:pt x="481" y="226"/>
                </a:lnTo>
                <a:lnTo>
                  <a:pt x="467" y="160"/>
                </a:lnTo>
                <a:lnTo>
                  <a:pt x="436" y="100"/>
                </a:lnTo>
                <a:lnTo>
                  <a:pt x="390" y="52"/>
                </a:lnTo>
                <a:lnTo>
                  <a:pt x="331" y="17"/>
                </a:lnTo>
                <a:lnTo>
                  <a:pt x="265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713800" y="5062680"/>
            <a:ext cx="190440" cy="19044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1"/>
                </a:lnTo>
                <a:lnTo>
                  <a:pt x="22" y="136"/>
                </a:lnTo>
                <a:lnTo>
                  <a:pt x="2" y="201"/>
                </a:lnTo>
                <a:lnTo>
                  <a:pt x="0" y="269"/>
                </a:lnTo>
                <a:lnTo>
                  <a:pt x="17" y="333"/>
                </a:lnTo>
                <a:lnTo>
                  <a:pt x="52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1" y="412"/>
                </a:lnTo>
                <a:lnTo>
                  <a:pt x="452" y="357"/>
                </a:lnTo>
                <a:lnTo>
                  <a:pt x="475" y="294"/>
                </a:lnTo>
                <a:lnTo>
                  <a:pt x="481" y="226"/>
                </a:lnTo>
                <a:lnTo>
                  <a:pt x="468" y="160"/>
                </a:lnTo>
                <a:lnTo>
                  <a:pt x="436" y="100"/>
                </a:lnTo>
                <a:lnTo>
                  <a:pt x="390" y="52"/>
                </a:lnTo>
                <a:lnTo>
                  <a:pt x="331" y="17"/>
                </a:lnTo>
                <a:lnTo>
                  <a:pt x="266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709640" y="2143080"/>
            <a:ext cx="190440" cy="19044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10"/>
                </a:lnTo>
                <a:lnTo>
                  <a:pt x="112" y="37"/>
                </a:lnTo>
                <a:lnTo>
                  <a:pt x="60" y="81"/>
                </a:lnTo>
                <a:lnTo>
                  <a:pt x="24" y="137"/>
                </a:lnTo>
                <a:lnTo>
                  <a:pt x="3" y="202"/>
                </a:lnTo>
                <a:lnTo>
                  <a:pt x="0" y="269"/>
                </a:lnTo>
                <a:lnTo>
                  <a:pt x="18" y="334"/>
                </a:lnTo>
                <a:lnTo>
                  <a:pt x="52" y="392"/>
                </a:lnTo>
                <a:lnTo>
                  <a:pt x="102" y="438"/>
                </a:lnTo>
                <a:lnTo>
                  <a:pt x="162" y="469"/>
                </a:lnTo>
                <a:lnTo>
                  <a:pt x="227" y="482"/>
                </a:lnTo>
                <a:lnTo>
                  <a:pt x="295" y="476"/>
                </a:lnTo>
                <a:lnTo>
                  <a:pt x="358" y="452"/>
                </a:lnTo>
                <a:lnTo>
                  <a:pt x="412" y="412"/>
                </a:lnTo>
                <a:lnTo>
                  <a:pt x="452" y="357"/>
                </a:lnTo>
                <a:lnTo>
                  <a:pt x="476" y="294"/>
                </a:lnTo>
                <a:lnTo>
                  <a:pt x="481" y="227"/>
                </a:lnTo>
                <a:lnTo>
                  <a:pt x="468" y="160"/>
                </a:lnTo>
                <a:lnTo>
                  <a:pt x="437" y="101"/>
                </a:lnTo>
                <a:lnTo>
                  <a:pt x="390" y="52"/>
                </a:lnTo>
                <a:lnTo>
                  <a:pt x="332" y="18"/>
                </a:lnTo>
                <a:lnTo>
                  <a:pt x="267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211720" y="2143080"/>
            <a:ext cx="190440" cy="19044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10"/>
                </a:lnTo>
                <a:lnTo>
                  <a:pt x="111" y="37"/>
                </a:lnTo>
                <a:lnTo>
                  <a:pt x="60" y="81"/>
                </a:lnTo>
                <a:lnTo>
                  <a:pt x="22" y="137"/>
                </a:lnTo>
                <a:lnTo>
                  <a:pt x="2" y="202"/>
                </a:lnTo>
                <a:lnTo>
                  <a:pt x="0" y="269"/>
                </a:lnTo>
                <a:lnTo>
                  <a:pt x="17" y="334"/>
                </a:lnTo>
                <a:lnTo>
                  <a:pt x="51" y="392"/>
                </a:lnTo>
                <a:lnTo>
                  <a:pt x="101" y="438"/>
                </a:lnTo>
                <a:lnTo>
                  <a:pt x="161" y="469"/>
                </a:lnTo>
                <a:lnTo>
                  <a:pt x="227" y="482"/>
                </a:lnTo>
                <a:lnTo>
                  <a:pt x="294" y="476"/>
                </a:lnTo>
                <a:lnTo>
                  <a:pt x="358" y="452"/>
                </a:lnTo>
                <a:lnTo>
                  <a:pt x="411" y="412"/>
                </a:lnTo>
                <a:lnTo>
                  <a:pt x="451" y="357"/>
                </a:lnTo>
                <a:lnTo>
                  <a:pt x="475" y="294"/>
                </a:lnTo>
                <a:lnTo>
                  <a:pt x="481" y="227"/>
                </a:lnTo>
                <a:lnTo>
                  <a:pt x="467" y="160"/>
                </a:lnTo>
                <a:lnTo>
                  <a:pt x="436" y="101"/>
                </a:lnTo>
                <a:lnTo>
                  <a:pt x="390" y="52"/>
                </a:lnTo>
                <a:lnTo>
                  <a:pt x="331" y="18"/>
                </a:lnTo>
                <a:lnTo>
                  <a:pt x="265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713800" y="2143080"/>
            <a:ext cx="190440" cy="19044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10"/>
                </a:lnTo>
                <a:lnTo>
                  <a:pt x="112" y="37"/>
                </a:lnTo>
                <a:lnTo>
                  <a:pt x="60" y="81"/>
                </a:lnTo>
                <a:lnTo>
                  <a:pt x="22" y="137"/>
                </a:lnTo>
                <a:lnTo>
                  <a:pt x="2" y="202"/>
                </a:lnTo>
                <a:lnTo>
                  <a:pt x="0" y="269"/>
                </a:lnTo>
                <a:lnTo>
                  <a:pt x="17" y="334"/>
                </a:lnTo>
                <a:lnTo>
                  <a:pt x="52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1" y="412"/>
                </a:lnTo>
                <a:lnTo>
                  <a:pt x="452" y="357"/>
                </a:lnTo>
                <a:lnTo>
                  <a:pt x="475" y="294"/>
                </a:lnTo>
                <a:lnTo>
                  <a:pt x="481" y="227"/>
                </a:lnTo>
                <a:lnTo>
                  <a:pt x="468" y="160"/>
                </a:lnTo>
                <a:lnTo>
                  <a:pt x="436" y="101"/>
                </a:lnTo>
                <a:lnTo>
                  <a:pt x="390" y="52"/>
                </a:lnTo>
                <a:lnTo>
                  <a:pt x="331" y="18"/>
                </a:lnTo>
                <a:lnTo>
                  <a:pt x="266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809200" y="2335320"/>
            <a:ext cx="1440" cy="272736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307120" y="2335320"/>
            <a:ext cx="1440" cy="272736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805040" y="2335320"/>
            <a:ext cx="1440" cy="272736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60680" y="3602160"/>
            <a:ext cx="190440" cy="19188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40" y="0"/>
                </a:moveTo>
                <a:lnTo>
                  <a:pt x="173" y="9"/>
                </a:lnTo>
                <a:lnTo>
                  <a:pt x="111" y="37"/>
                </a:lnTo>
                <a:lnTo>
                  <a:pt x="59" y="81"/>
                </a:lnTo>
                <a:lnTo>
                  <a:pt x="22" y="136"/>
                </a:lnTo>
                <a:lnTo>
                  <a:pt x="1" y="201"/>
                </a:lnTo>
                <a:lnTo>
                  <a:pt x="0" y="269"/>
                </a:lnTo>
                <a:lnTo>
                  <a:pt x="16" y="334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6" y="482"/>
                </a:lnTo>
                <a:lnTo>
                  <a:pt x="294" y="476"/>
                </a:lnTo>
                <a:lnTo>
                  <a:pt x="356" y="452"/>
                </a:lnTo>
                <a:lnTo>
                  <a:pt x="410" y="412"/>
                </a:lnTo>
                <a:lnTo>
                  <a:pt x="450" y="357"/>
                </a:lnTo>
                <a:lnTo>
                  <a:pt x="475" y="294"/>
                </a:lnTo>
                <a:lnTo>
                  <a:pt x="480" y="227"/>
                </a:lnTo>
                <a:lnTo>
                  <a:pt x="467" y="160"/>
                </a:lnTo>
                <a:lnTo>
                  <a:pt x="435" y="100"/>
                </a:lnTo>
                <a:lnTo>
                  <a:pt x="388" y="52"/>
                </a:lnTo>
                <a:lnTo>
                  <a:pt x="331" y="18"/>
                </a:lnTo>
                <a:lnTo>
                  <a:pt x="265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962760" y="3602160"/>
            <a:ext cx="190440" cy="19188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39" y="0"/>
                </a:moveTo>
                <a:lnTo>
                  <a:pt x="173" y="9"/>
                </a:lnTo>
                <a:lnTo>
                  <a:pt x="110" y="37"/>
                </a:lnTo>
                <a:lnTo>
                  <a:pt x="60" y="81"/>
                </a:lnTo>
                <a:lnTo>
                  <a:pt x="22" y="136"/>
                </a:lnTo>
                <a:lnTo>
                  <a:pt x="1" y="201"/>
                </a:lnTo>
                <a:lnTo>
                  <a:pt x="0" y="269"/>
                </a:lnTo>
                <a:lnTo>
                  <a:pt x="17" y="334"/>
                </a:lnTo>
                <a:lnTo>
                  <a:pt x="50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0" y="412"/>
                </a:lnTo>
                <a:lnTo>
                  <a:pt x="451" y="357"/>
                </a:lnTo>
                <a:lnTo>
                  <a:pt x="474" y="294"/>
                </a:lnTo>
                <a:lnTo>
                  <a:pt x="480" y="227"/>
                </a:lnTo>
                <a:lnTo>
                  <a:pt x="466" y="160"/>
                </a:lnTo>
                <a:lnTo>
                  <a:pt x="435" y="100"/>
                </a:lnTo>
                <a:lnTo>
                  <a:pt x="389" y="52"/>
                </a:lnTo>
                <a:lnTo>
                  <a:pt x="330" y="18"/>
                </a:lnTo>
                <a:lnTo>
                  <a:pt x="265" y="1"/>
                </a:lnTo>
                <a:lnTo>
                  <a:pt x="239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 flipV="1">
            <a:off x="7130520" y="3758760"/>
            <a:ext cx="1605240" cy="1336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5380200" y="2300040"/>
            <a:ext cx="1604880" cy="1336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5380200" y="3758760"/>
            <a:ext cx="1604880" cy="1336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7130880" y="2300040"/>
            <a:ext cx="1605240" cy="1336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878120" y="2300400"/>
            <a:ext cx="1604880" cy="1336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629160" y="3759120"/>
            <a:ext cx="1604880" cy="1336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3629160" y="2300400"/>
            <a:ext cx="1604880" cy="1336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1878120" y="3759120"/>
            <a:ext cx="1604880" cy="1336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649160" y="158580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4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522440" y="1800360"/>
            <a:ext cx="466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10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135040" y="16207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5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008320" y="1835280"/>
            <a:ext cx="466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11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8637120" y="160344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6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510400" y="1817640"/>
            <a:ext cx="466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12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25440" y="344484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5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860640" y="3659040"/>
            <a:ext cx="466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27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498800" y="344484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6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34000" y="3659040"/>
            <a:ext cx="466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28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649160" y="53197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549080" y="557064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7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135040" y="53197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035320" y="557064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8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637120" y="53197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554680" y="557064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9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547040" y="2143080"/>
            <a:ext cx="190440" cy="19044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40" y="0"/>
                </a:moveTo>
                <a:lnTo>
                  <a:pt x="173" y="10"/>
                </a:lnTo>
                <a:lnTo>
                  <a:pt x="111" y="37"/>
                </a:lnTo>
                <a:lnTo>
                  <a:pt x="59" y="81"/>
                </a:lnTo>
                <a:lnTo>
                  <a:pt x="22" y="137"/>
                </a:lnTo>
                <a:lnTo>
                  <a:pt x="1" y="202"/>
                </a:lnTo>
                <a:lnTo>
                  <a:pt x="0" y="269"/>
                </a:lnTo>
                <a:lnTo>
                  <a:pt x="16" y="334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6" y="482"/>
                </a:lnTo>
                <a:lnTo>
                  <a:pt x="294" y="476"/>
                </a:lnTo>
                <a:lnTo>
                  <a:pt x="356" y="452"/>
                </a:lnTo>
                <a:lnTo>
                  <a:pt x="410" y="412"/>
                </a:lnTo>
                <a:lnTo>
                  <a:pt x="450" y="357"/>
                </a:lnTo>
                <a:lnTo>
                  <a:pt x="475" y="294"/>
                </a:lnTo>
                <a:lnTo>
                  <a:pt x="480" y="227"/>
                </a:lnTo>
                <a:lnTo>
                  <a:pt x="467" y="160"/>
                </a:lnTo>
                <a:lnTo>
                  <a:pt x="435" y="101"/>
                </a:lnTo>
                <a:lnTo>
                  <a:pt x="389" y="52"/>
                </a:lnTo>
                <a:lnTo>
                  <a:pt x="331" y="18"/>
                </a:lnTo>
                <a:lnTo>
                  <a:pt x="265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378480" y="2143080"/>
            <a:ext cx="192240" cy="19044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39" y="0"/>
                </a:moveTo>
                <a:lnTo>
                  <a:pt x="172" y="10"/>
                </a:lnTo>
                <a:lnTo>
                  <a:pt x="111" y="37"/>
                </a:lnTo>
                <a:lnTo>
                  <a:pt x="60" y="81"/>
                </a:lnTo>
                <a:lnTo>
                  <a:pt x="21" y="137"/>
                </a:lnTo>
                <a:lnTo>
                  <a:pt x="2" y="202"/>
                </a:lnTo>
                <a:lnTo>
                  <a:pt x="0" y="269"/>
                </a:lnTo>
                <a:lnTo>
                  <a:pt x="17" y="334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3" y="476"/>
                </a:lnTo>
                <a:lnTo>
                  <a:pt x="357" y="452"/>
                </a:lnTo>
                <a:lnTo>
                  <a:pt x="411" y="412"/>
                </a:lnTo>
                <a:lnTo>
                  <a:pt x="451" y="357"/>
                </a:lnTo>
                <a:lnTo>
                  <a:pt x="475" y="294"/>
                </a:lnTo>
                <a:lnTo>
                  <a:pt x="480" y="227"/>
                </a:lnTo>
                <a:lnTo>
                  <a:pt x="467" y="160"/>
                </a:lnTo>
                <a:lnTo>
                  <a:pt x="436" y="101"/>
                </a:lnTo>
                <a:lnTo>
                  <a:pt x="389" y="52"/>
                </a:lnTo>
                <a:lnTo>
                  <a:pt x="330" y="18"/>
                </a:lnTo>
                <a:lnTo>
                  <a:pt x="266" y="1"/>
                </a:lnTo>
                <a:lnTo>
                  <a:pt x="239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737480" y="2238480"/>
            <a:ext cx="976320" cy="14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570720" y="2238480"/>
            <a:ext cx="974520" cy="14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044960" y="2143080"/>
            <a:ext cx="190440" cy="19044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40" y="0"/>
                </a:moveTo>
                <a:lnTo>
                  <a:pt x="173" y="10"/>
                </a:lnTo>
                <a:lnTo>
                  <a:pt x="112" y="37"/>
                </a:lnTo>
                <a:lnTo>
                  <a:pt x="60" y="81"/>
                </a:lnTo>
                <a:lnTo>
                  <a:pt x="23" y="137"/>
                </a:lnTo>
                <a:lnTo>
                  <a:pt x="2" y="202"/>
                </a:lnTo>
                <a:lnTo>
                  <a:pt x="0" y="269"/>
                </a:lnTo>
                <a:lnTo>
                  <a:pt x="17" y="334"/>
                </a:lnTo>
                <a:lnTo>
                  <a:pt x="52" y="392"/>
                </a:lnTo>
                <a:lnTo>
                  <a:pt x="100" y="438"/>
                </a:lnTo>
                <a:lnTo>
                  <a:pt x="161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1" y="412"/>
                </a:lnTo>
                <a:lnTo>
                  <a:pt x="452" y="357"/>
                </a:lnTo>
                <a:lnTo>
                  <a:pt x="476" y="294"/>
                </a:lnTo>
                <a:lnTo>
                  <a:pt x="480" y="227"/>
                </a:lnTo>
                <a:lnTo>
                  <a:pt x="468" y="160"/>
                </a:lnTo>
                <a:lnTo>
                  <a:pt x="437" y="101"/>
                </a:lnTo>
                <a:lnTo>
                  <a:pt x="389" y="52"/>
                </a:lnTo>
                <a:lnTo>
                  <a:pt x="332" y="18"/>
                </a:lnTo>
                <a:lnTo>
                  <a:pt x="266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876400" y="2143080"/>
            <a:ext cx="190800" cy="19044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39" y="0"/>
                </a:moveTo>
                <a:lnTo>
                  <a:pt x="173" y="10"/>
                </a:lnTo>
                <a:lnTo>
                  <a:pt x="110" y="37"/>
                </a:lnTo>
                <a:lnTo>
                  <a:pt x="60" y="81"/>
                </a:lnTo>
                <a:lnTo>
                  <a:pt x="22" y="137"/>
                </a:lnTo>
                <a:lnTo>
                  <a:pt x="1" y="202"/>
                </a:lnTo>
                <a:lnTo>
                  <a:pt x="0" y="269"/>
                </a:lnTo>
                <a:lnTo>
                  <a:pt x="17" y="334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0" y="412"/>
                </a:lnTo>
                <a:lnTo>
                  <a:pt x="451" y="357"/>
                </a:lnTo>
                <a:lnTo>
                  <a:pt x="474" y="294"/>
                </a:lnTo>
                <a:lnTo>
                  <a:pt x="480" y="227"/>
                </a:lnTo>
                <a:lnTo>
                  <a:pt x="466" y="160"/>
                </a:lnTo>
                <a:lnTo>
                  <a:pt x="435" y="101"/>
                </a:lnTo>
                <a:lnTo>
                  <a:pt x="389" y="52"/>
                </a:lnTo>
                <a:lnTo>
                  <a:pt x="330" y="18"/>
                </a:lnTo>
                <a:lnTo>
                  <a:pt x="265" y="1"/>
                </a:lnTo>
                <a:lnTo>
                  <a:pt x="239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900080" y="2238480"/>
            <a:ext cx="976320" cy="14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235400" y="2238480"/>
            <a:ext cx="976320" cy="14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067200" y="2238480"/>
            <a:ext cx="976320" cy="14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402160" y="2238480"/>
            <a:ext cx="976320" cy="14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805040" y="825480"/>
            <a:ext cx="1440" cy="193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1805040" y="1050840"/>
            <a:ext cx="1440" cy="237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719000" y="113184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704320" y="113184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2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872880" y="113184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4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039640" y="113184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36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208200" y="113184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48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374960" y="113184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60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541720" y="113184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72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307120" y="825480"/>
            <a:ext cx="1440" cy="193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307120" y="1050840"/>
            <a:ext cx="1440" cy="237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809200" y="825480"/>
            <a:ext cx="1440" cy="193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8809200" y="1050840"/>
            <a:ext cx="1440" cy="237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332000" y="5985000"/>
            <a:ext cx="144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990720" y="5529240"/>
            <a:ext cx="1611360" cy="690480"/>
            <a:chOff x="990720" y="5529240"/>
            <a:chExt cx="1611360" cy="690480"/>
          </a:xfrm>
        </p:grpSpPr>
        <p:sp>
          <p:nvSpPr>
            <p:cNvPr id="254" name=""/>
            <p:cNvSpPr/>
            <p:nvPr/>
          </p:nvSpPr>
          <p:spPr>
            <a:xfrm>
              <a:off x="990720" y="5529240"/>
              <a:ext cx="158760" cy="214200"/>
            </a:xfrm>
            <a:custGeom>
              <a:avLst/>
              <a:gdLst/>
              <a:ahLst/>
              <a:rect l="l" t="t" r="r" b="b"/>
              <a:pathLst>
                <a:path w="396" h="544">
                  <a:moveTo>
                    <a:pt x="198" y="0"/>
                  </a:moveTo>
                  <a:lnTo>
                    <a:pt x="396" y="544"/>
                  </a:lnTo>
                  <a:lnTo>
                    <a:pt x="198" y="272"/>
                  </a:lnTo>
                  <a:lnTo>
                    <a:pt x="0" y="544"/>
                  </a:lnTo>
                  <a:lnTo>
                    <a:pt x="19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070280" y="5529240"/>
              <a:ext cx="1440" cy="6127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386080" y="6062400"/>
              <a:ext cx="216000" cy="157320"/>
            </a:xfrm>
            <a:custGeom>
              <a:avLst/>
              <a:gdLst/>
              <a:ahLst/>
              <a:rect l="l" t="t" r="r" b="b"/>
              <a:pathLst>
                <a:path w="544" h="396">
                  <a:moveTo>
                    <a:pt x="544" y="198"/>
                  </a:moveTo>
                  <a:lnTo>
                    <a:pt x="0" y="396"/>
                  </a:lnTo>
                  <a:lnTo>
                    <a:pt x="272" y="198"/>
                  </a:lnTo>
                  <a:lnTo>
                    <a:pt x="0" y="0"/>
                  </a:lnTo>
                  <a:lnTo>
                    <a:pt x="544" y="19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>
              <a:off x="1069920" y="6141960"/>
              <a:ext cx="1531800" cy="144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8" name=""/>
          <p:cNvSpPr/>
          <p:nvPr/>
        </p:nvSpPr>
        <p:spPr>
          <a:xfrm>
            <a:off x="1332000" y="5985000"/>
            <a:ext cx="144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953080" y="5824440"/>
            <a:ext cx="186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Univers"/>
              </a:rPr>
              <a:t>X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42240" y="5472000"/>
            <a:ext cx="1821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Univers"/>
              </a:rPr>
              <a:t>Z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878040" y="3699000"/>
            <a:ext cx="1936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822240" y="3699000"/>
            <a:ext cx="2376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 flipV="1">
            <a:off x="877680" y="5159520"/>
            <a:ext cx="176040" cy="158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822240" y="5157720"/>
            <a:ext cx="2376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33080" y="503244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4160" y="357192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44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556080" y="1565280"/>
            <a:ext cx="1440" cy="193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556080" y="1509840"/>
            <a:ext cx="1440" cy="237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7058160" y="1565280"/>
            <a:ext cx="1440" cy="193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058160" y="1509840"/>
            <a:ext cx="1440" cy="237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312360" y="76212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8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779520" y="70956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54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lements - pla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23800" y="1278000"/>
            <a:ext cx="214560" cy="216000"/>
          </a:xfrm>
          <a:custGeom>
            <a:avLst/>
            <a:gdLst/>
            <a:ahLst/>
            <a:rect l="l" t="t" r="r" b="b"/>
            <a:pathLst>
              <a:path w="539" h="544">
                <a:moveTo>
                  <a:pt x="270" y="0"/>
                </a:moveTo>
                <a:lnTo>
                  <a:pt x="193" y="11"/>
                </a:lnTo>
                <a:lnTo>
                  <a:pt x="123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1" y="448"/>
                </a:lnTo>
                <a:lnTo>
                  <a:pt x="119" y="499"/>
                </a:lnTo>
                <a:lnTo>
                  <a:pt x="189" y="532"/>
                </a:lnTo>
                <a:lnTo>
                  <a:pt x="266" y="544"/>
                </a:lnTo>
                <a:lnTo>
                  <a:pt x="342" y="535"/>
                </a:lnTo>
                <a:lnTo>
                  <a:pt x="413" y="503"/>
                </a:lnTo>
                <a:lnTo>
                  <a:pt x="472" y="454"/>
                </a:lnTo>
                <a:lnTo>
                  <a:pt x="514" y="390"/>
                </a:lnTo>
                <a:lnTo>
                  <a:pt x="538" y="316"/>
                </a:lnTo>
                <a:lnTo>
                  <a:pt x="539" y="240"/>
                </a:lnTo>
                <a:lnTo>
                  <a:pt x="520" y="165"/>
                </a:lnTo>
                <a:lnTo>
                  <a:pt x="480" y="99"/>
                </a:lnTo>
                <a:lnTo>
                  <a:pt x="424" y="48"/>
                </a:lnTo>
                <a:lnTo>
                  <a:pt x="354" y="13"/>
                </a:lnTo>
                <a:lnTo>
                  <a:pt x="277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478400" y="1278000"/>
            <a:ext cx="21420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4" y="11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2" y="448"/>
                </a:lnTo>
                <a:lnTo>
                  <a:pt x="120" y="499"/>
                </a:lnTo>
                <a:lnTo>
                  <a:pt x="190" y="532"/>
                </a:lnTo>
                <a:lnTo>
                  <a:pt x="266" y="544"/>
                </a:lnTo>
                <a:lnTo>
                  <a:pt x="343" y="535"/>
                </a:lnTo>
                <a:lnTo>
                  <a:pt x="414" y="503"/>
                </a:lnTo>
                <a:lnTo>
                  <a:pt x="473" y="454"/>
                </a:lnTo>
                <a:lnTo>
                  <a:pt x="515" y="390"/>
                </a:lnTo>
                <a:lnTo>
                  <a:pt x="539" y="316"/>
                </a:lnTo>
                <a:lnTo>
                  <a:pt x="540" y="240"/>
                </a:lnTo>
                <a:lnTo>
                  <a:pt x="520" y="165"/>
                </a:lnTo>
                <a:lnTo>
                  <a:pt x="481" y="99"/>
                </a:lnTo>
                <a:lnTo>
                  <a:pt x="424" y="48"/>
                </a:lnTo>
                <a:lnTo>
                  <a:pt x="355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8431200" y="1278000"/>
            <a:ext cx="21420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4" y="11"/>
                </a:lnTo>
                <a:lnTo>
                  <a:pt x="124" y="42"/>
                </a:lnTo>
                <a:lnTo>
                  <a:pt x="65" y="92"/>
                </a:lnTo>
                <a:lnTo>
                  <a:pt x="22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2" y="448"/>
                </a:lnTo>
                <a:lnTo>
                  <a:pt x="120" y="499"/>
                </a:lnTo>
                <a:lnTo>
                  <a:pt x="190" y="532"/>
                </a:lnTo>
                <a:lnTo>
                  <a:pt x="266" y="544"/>
                </a:lnTo>
                <a:lnTo>
                  <a:pt x="342" y="535"/>
                </a:lnTo>
                <a:lnTo>
                  <a:pt x="414" y="503"/>
                </a:lnTo>
                <a:lnTo>
                  <a:pt x="473" y="454"/>
                </a:lnTo>
                <a:lnTo>
                  <a:pt x="515" y="390"/>
                </a:lnTo>
                <a:lnTo>
                  <a:pt x="539" y="316"/>
                </a:lnTo>
                <a:lnTo>
                  <a:pt x="540" y="240"/>
                </a:lnTo>
                <a:lnTo>
                  <a:pt x="520" y="165"/>
                </a:lnTo>
                <a:lnTo>
                  <a:pt x="481" y="99"/>
                </a:lnTo>
                <a:lnTo>
                  <a:pt x="424" y="48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113600" y="1278000"/>
            <a:ext cx="214200" cy="216000"/>
          </a:xfrm>
          <a:custGeom>
            <a:avLst/>
            <a:gdLst/>
            <a:ahLst/>
            <a:rect l="l" t="t" r="r" b="b"/>
            <a:pathLst>
              <a:path w="539" h="544">
                <a:moveTo>
                  <a:pt x="269" y="0"/>
                </a:moveTo>
                <a:lnTo>
                  <a:pt x="193" y="11"/>
                </a:lnTo>
                <a:lnTo>
                  <a:pt x="123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1" y="448"/>
                </a:lnTo>
                <a:lnTo>
                  <a:pt x="119" y="499"/>
                </a:lnTo>
                <a:lnTo>
                  <a:pt x="189" y="532"/>
                </a:lnTo>
                <a:lnTo>
                  <a:pt x="265" y="544"/>
                </a:lnTo>
                <a:lnTo>
                  <a:pt x="342" y="535"/>
                </a:lnTo>
                <a:lnTo>
                  <a:pt x="413" y="503"/>
                </a:lnTo>
                <a:lnTo>
                  <a:pt x="472" y="454"/>
                </a:lnTo>
                <a:lnTo>
                  <a:pt x="514" y="390"/>
                </a:lnTo>
                <a:lnTo>
                  <a:pt x="538" y="316"/>
                </a:lnTo>
                <a:lnTo>
                  <a:pt x="539" y="240"/>
                </a:lnTo>
                <a:lnTo>
                  <a:pt x="520" y="165"/>
                </a:lnTo>
                <a:lnTo>
                  <a:pt x="480" y="99"/>
                </a:lnTo>
                <a:lnTo>
                  <a:pt x="423" y="48"/>
                </a:lnTo>
                <a:lnTo>
                  <a:pt x="354" y="13"/>
                </a:lnTo>
                <a:lnTo>
                  <a:pt x="277" y="0"/>
                </a:lnTo>
                <a:lnTo>
                  <a:pt x="26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796000" y="1278000"/>
            <a:ext cx="21420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3" y="11"/>
                </a:lnTo>
                <a:lnTo>
                  <a:pt x="124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2" y="448"/>
                </a:lnTo>
                <a:lnTo>
                  <a:pt x="120" y="499"/>
                </a:lnTo>
                <a:lnTo>
                  <a:pt x="190" y="532"/>
                </a:lnTo>
                <a:lnTo>
                  <a:pt x="266" y="544"/>
                </a:lnTo>
                <a:lnTo>
                  <a:pt x="342" y="535"/>
                </a:lnTo>
                <a:lnTo>
                  <a:pt x="413" y="503"/>
                </a:lnTo>
                <a:lnTo>
                  <a:pt x="473" y="454"/>
                </a:lnTo>
                <a:lnTo>
                  <a:pt x="515" y="390"/>
                </a:lnTo>
                <a:lnTo>
                  <a:pt x="538" y="316"/>
                </a:lnTo>
                <a:lnTo>
                  <a:pt x="540" y="240"/>
                </a:lnTo>
                <a:lnTo>
                  <a:pt x="520" y="165"/>
                </a:lnTo>
                <a:lnTo>
                  <a:pt x="481" y="99"/>
                </a:lnTo>
                <a:lnTo>
                  <a:pt x="424" y="48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692600" y="138600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327800" y="1386000"/>
            <a:ext cx="110196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010200" y="1386000"/>
            <a:ext cx="110196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159000" y="1278000"/>
            <a:ext cx="21456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3" y="11"/>
                </a:lnTo>
                <a:lnTo>
                  <a:pt x="124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2" y="448"/>
                </a:lnTo>
                <a:lnTo>
                  <a:pt x="120" y="499"/>
                </a:lnTo>
                <a:lnTo>
                  <a:pt x="189" y="532"/>
                </a:lnTo>
                <a:lnTo>
                  <a:pt x="266" y="544"/>
                </a:lnTo>
                <a:lnTo>
                  <a:pt x="342" y="535"/>
                </a:lnTo>
                <a:lnTo>
                  <a:pt x="413" y="503"/>
                </a:lnTo>
                <a:lnTo>
                  <a:pt x="472" y="454"/>
                </a:lnTo>
                <a:lnTo>
                  <a:pt x="515" y="390"/>
                </a:lnTo>
                <a:lnTo>
                  <a:pt x="538" y="316"/>
                </a:lnTo>
                <a:lnTo>
                  <a:pt x="540" y="240"/>
                </a:lnTo>
                <a:lnTo>
                  <a:pt x="520" y="165"/>
                </a:lnTo>
                <a:lnTo>
                  <a:pt x="480" y="99"/>
                </a:lnTo>
                <a:lnTo>
                  <a:pt x="424" y="48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1400" y="1278000"/>
            <a:ext cx="21456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4" y="11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2" y="448"/>
                </a:lnTo>
                <a:lnTo>
                  <a:pt x="120" y="499"/>
                </a:lnTo>
                <a:lnTo>
                  <a:pt x="190" y="532"/>
                </a:lnTo>
                <a:lnTo>
                  <a:pt x="266" y="544"/>
                </a:lnTo>
                <a:lnTo>
                  <a:pt x="343" y="535"/>
                </a:lnTo>
                <a:lnTo>
                  <a:pt x="414" y="503"/>
                </a:lnTo>
                <a:lnTo>
                  <a:pt x="473" y="454"/>
                </a:lnTo>
                <a:lnTo>
                  <a:pt x="515" y="390"/>
                </a:lnTo>
                <a:lnTo>
                  <a:pt x="539" y="316"/>
                </a:lnTo>
                <a:lnTo>
                  <a:pt x="540" y="240"/>
                </a:lnTo>
                <a:lnTo>
                  <a:pt x="520" y="165"/>
                </a:lnTo>
                <a:lnTo>
                  <a:pt x="481" y="99"/>
                </a:lnTo>
                <a:lnTo>
                  <a:pt x="424" y="48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39800" y="138600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375000" y="138600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057400" y="138600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127880" y="9716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446920" y="9716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764880" y="9716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082480" y="9716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400080" y="9716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717680" y="9716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23800" y="4572000"/>
            <a:ext cx="214560" cy="216000"/>
          </a:xfrm>
          <a:custGeom>
            <a:avLst/>
            <a:gdLst/>
            <a:ahLst/>
            <a:rect l="l" t="t" r="r" b="b"/>
            <a:pathLst>
              <a:path w="539" h="543">
                <a:moveTo>
                  <a:pt x="270" y="0"/>
                </a:moveTo>
                <a:lnTo>
                  <a:pt x="193" y="10"/>
                </a:lnTo>
                <a:lnTo>
                  <a:pt x="123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1" y="447"/>
                </a:lnTo>
                <a:lnTo>
                  <a:pt x="119" y="499"/>
                </a:lnTo>
                <a:lnTo>
                  <a:pt x="189" y="532"/>
                </a:lnTo>
                <a:lnTo>
                  <a:pt x="266" y="543"/>
                </a:lnTo>
                <a:lnTo>
                  <a:pt x="342" y="534"/>
                </a:lnTo>
                <a:lnTo>
                  <a:pt x="413" y="504"/>
                </a:lnTo>
                <a:lnTo>
                  <a:pt x="472" y="454"/>
                </a:lnTo>
                <a:lnTo>
                  <a:pt x="514" y="389"/>
                </a:lnTo>
                <a:lnTo>
                  <a:pt x="538" y="316"/>
                </a:lnTo>
                <a:lnTo>
                  <a:pt x="539" y="239"/>
                </a:lnTo>
                <a:lnTo>
                  <a:pt x="520" y="164"/>
                </a:lnTo>
                <a:lnTo>
                  <a:pt x="480" y="98"/>
                </a:lnTo>
                <a:lnTo>
                  <a:pt x="424" y="47"/>
                </a:lnTo>
                <a:lnTo>
                  <a:pt x="354" y="13"/>
                </a:lnTo>
                <a:lnTo>
                  <a:pt x="277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478400" y="4572000"/>
            <a:ext cx="21420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4" y="10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3"/>
                </a:lnTo>
                <a:lnTo>
                  <a:pt x="343" y="534"/>
                </a:lnTo>
                <a:lnTo>
                  <a:pt x="414" y="504"/>
                </a:lnTo>
                <a:lnTo>
                  <a:pt x="473" y="454"/>
                </a:lnTo>
                <a:lnTo>
                  <a:pt x="515" y="389"/>
                </a:lnTo>
                <a:lnTo>
                  <a:pt x="539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8"/>
                </a:lnTo>
                <a:lnTo>
                  <a:pt x="424" y="47"/>
                </a:lnTo>
                <a:lnTo>
                  <a:pt x="355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8431200" y="4572000"/>
            <a:ext cx="21420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4" y="10"/>
                </a:lnTo>
                <a:lnTo>
                  <a:pt x="124" y="42"/>
                </a:lnTo>
                <a:lnTo>
                  <a:pt x="65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3"/>
                </a:lnTo>
                <a:lnTo>
                  <a:pt x="342" y="534"/>
                </a:lnTo>
                <a:lnTo>
                  <a:pt x="414" y="504"/>
                </a:lnTo>
                <a:lnTo>
                  <a:pt x="473" y="454"/>
                </a:lnTo>
                <a:lnTo>
                  <a:pt x="515" y="389"/>
                </a:lnTo>
                <a:lnTo>
                  <a:pt x="539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8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113600" y="4572000"/>
            <a:ext cx="214200" cy="216000"/>
          </a:xfrm>
          <a:custGeom>
            <a:avLst/>
            <a:gdLst/>
            <a:ahLst/>
            <a:rect l="l" t="t" r="r" b="b"/>
            <a:pathLst>
              <a:path w="539" h="543">
                <a:moveTo>
                  <a:pt x="269" y="0"/>
                </a:moveTo>
                <a:lnTo>
                  <a:pt x="193" y="10"/>
                </a:lnTo>
                <a:lnTo>
                  <a:pt x="123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1" y="447"/>
                </a:lnTo>
                <a:lnTo>
                  <a:pt x="119" y="499"/>
                </a:lnTo>
                <a:lnTo>
                  <a:pt x="189" y="532"/>
                </a:lnTo>
                <a:lnTo>
                  <a:pt x="265" y="543"/>
                </a:lnTo>
                <a:lnTo>
                  <a:pt x="342" y="534"/>
                </a:lnTo>
                <a:lnTo>
                  <a:pt x="413" y="504"/>
                </a:lnTo>
                <a:lnTo>
                  <a:pt x="472" y="454"/>
                </a:lnTo>
                <a:lnTo>
                  <a:pt x="514" y="389"/>
                </a:lnTo>
                <a:lnTo>
                  <a:pt x="538" y="316"/>
                </a:lnTo>
                <a:lnTo>
                  <a:pt x="539" y="239"/>
                </a:lnTo>
                <a:lnTo>
                  <a:pt x="520" y="164"/>
                </a:lnTo>
                <a:lnTo>
                  <a:pt x="480" y="98"/>
                </a:lnTo>
                <a:lnTo>
                  <a:pt x="423" y="47"/>
                </a:lnTo>
                <a:lnTo>
                  <a:pt x="354" y="13"/>
                </a:lnTo>
                <a:lnTo>
                  <a:pt x="277" y="0"/>
                </a:lnTo>
                <a:lnTo>
                  <a:pt x="26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796000" y="4572000"/>
            <a:ext cx="21420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3" y="10"/>
                </a:lnTo>
                <a:lnTo>
                  <a:pt x="124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3"/>
                </a:lnTo>
                <a:lnTo>
                  <a:pt x="342" y="534"/>
                </a:lnTo>
                <a:lnTo>
                  <a:pt x="413" y="504"/>
                </a:lnTo>
                <a:lnTo>
                  <a:pt x="473" y="454"/>
                </a:lnTo>
                <a:lnTo>
                  <a:pt x="515" y="389"/>
                </a:lnTo>
                <a:lnTo>
                  <a:pt x="538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8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692600" y="468000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327800" y="4680000"/>
            <a:ext cx="110196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010200" y="4680000"/>
            <a:ext cx="110196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159000" y="4572000"/>
            <a:ext cx="21456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3" y="10"/>
                </a:lnTo>
                <a:lnTo>
                  <a:pt x="124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89" y="532"/>
                </a:lnTo>
                <a:lnTo>
                  <a:pt x="266" y="543"/>
                </a:lnTo>
                <a:lnTo>
                  <a:pt x="342" y="534"/>
                </a:lnTo>
                <a:lnTo>
                  <a:pt x="413" y="504"/>
                </a:lnTo>
                <a:lnTo>
                  <a:pt x="472" y="454"/>
                </a:lnTo>
                <a:lnTo>
                  <a:pt x="515" y="389"/>
                </a:lnTo>
                <a:lnTo>
                  <a:pt x="538" y="316"/>
                </a:lnTo>
                <a:lnTo>
                  <a:pt x="540" y="239"/>
                </a:lnTo>
                <a:lnTo>
                  <a:pt x="520" y="164"/>
                </a:lnTo>
                <a:lnTo>
                  <a:pt x="480" y="98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841400" y="4572000"/>
            <a:ext cx="21456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4" y="10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3"/>
                </a:lnTo>
                <a:lnTo>
                  <a:pt x="343" y="534"/>
                </a:lnTo>
                <a:lnTo>
                  <a:pt x="414" y="504"/>
                </a:lnTo>
                <a:lnTo>
                  <a:pt x="473" y="454"/>
                </a:lnTo>
                <a:lnTo>
                  <a:pt x="515" y="389"/>
                </a:lnTo>
                <a:lnTo>
                  <a:pt x="539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8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39800" y="468000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375000" y="468000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468000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127880" y="48261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446920" y="48261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764880" y="48261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082480" y="48261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400080" y="48261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717680" y="48261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631800" y="1494000"/>
            <a:ext cx="1440" cy="3078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V="1">
            <a:off x="8539200" y="1494000"/>
            <a:ext cx="1440" cy="3078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113600" y="3471840"/>
            <a:ext cx="214200" cy="216000"/>
          </a:xfrm>
          <a:custGeom>
            <a:avLst/>
            <a:gdLst/>
            <a:ahLst/>
            <a:rect l="l" t="t" r="r" b="b"/>
            <a:pathLst>
              <a:path w="539" h="544">
                <a:moveTo>
                  <a:pt x="269" y="0"/>
                </a:moveTo>
                <a:lnTo>
                  <a:pt x="193" y="10"/>
                </a:lnTo>
                <a:lnTo>
                  <a:pt x="123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1" y="447"/>
                </a:lnTo>
                <a:lnTo>
                  <a:pt x="119" y="499"/>
                </a:lnTo>
                <a:lnTo>
                  <a:pt x="189" y="532"/>
                </a:lnTo>
                <a:lnTo>
                  <a:pt x="265" y="544"/>
                </a:lnTo>
                <a:lnTo>
                  <a:pt x="342" y="534"/>
                </a:lnTo>
                <a:lnTo>
                  <a:pt x="413" y="504"/>
                </a:lnTo>
                <a:lnTo>
                  <a:pt x="472" y="454"/>
                </a:lnTo>
                <a:lnTo>
                  <a:pt x="514" y="389"/>
                </a:lnTo>
                <a:lnTo>
                  <a:pt x="538" y="316"/>
                </a:lnTo>
                <a:lnTo>
                  <a:pt x="539" y="239"/>
                </a:lnTo>
                <a:lnTo>
                  <a:pt x="520" y="164"/>
                </a:lnTo>
                <a:lnTo>
                  <a:pt x="480" y="99"/>
                </a:lnTo>
                <a:lnTo>
                  <a:pt x="423" y="47"/>
                </a:lnTo>
                <a:lnTo>
                  <a:pt x="354" y="13"/>
                </a:lnTo>
                <a:lnTo>
                  <a:pt x="277" y="0"/>
                </a:lnTo>
                <a:lnTo>
                  <a:pt x="26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841400" y="3471840"/>
            <a:ext cx="21456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4" y="10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4"/>
                </a:lnTo>
                <a:lnTo>
                  <a:pt x="343" y="534"/>
                </a:lnTo>
                <a:lnTo>
                  <a:pt x="414" y="504"/>
                </a:lnTo>
                <a:lnTo>
                  <a:pt x="473" y="454"/>
                </a:lnTo>
                <a:lnTo>
                  <a:pt x="515" y="389"/>
                </a:lnTo>
                <a:lnTo>
                  <a:pt x="539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9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796000" y="2376360"/>
            <a:ext cx="21420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3" y="11"/>
                </a:lnTo>
                <a:lnTo>
                  <a:pt x="124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2" y="448"/>
                </a:lnTo>
                <a:lnTo>
                  <a:pt x="120" y="499"/>
                </a:lnTo>
                <a:lnTo>
                  <a:pt x="190" y="532"/>
                </a:lnTo>
                <a:lnTo>
                  <a:pt x="266" y="544"/>
                </a:lnTo>
                <a:lnTo>
                  <a:pt x="342" y="535"/>
                </a:lnTo>
                <a:lnTo>
                  <a:pt x="413" y="503"/>
                </a:lnTo>
                <a:lnTo>
                  <a:pt x="473" y="454"/>
                </a:lnTo>
                <a:lnTo>
                  <a:pt x="515" y="390"/>
                </a:lnTo>
                <a:lnTo>
                  <a:pt x="538" y="316"/>
                </a:lnTo>
                <a:lnTo>
                  <a:pt x="540" y="240"/>
                </a:lnTo>
                <a:lnTo>
                  <a:pt x="520" y="165"/>
                </a:lnTo>
                <a:lnTo>
                  <a:pt x="481" y="99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159000" y="2376360"/>
            <a:ext cx="21456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3" y="11"/>
                </a:lnTo>
                <a:lnTo>
                  <a:pt x="124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2" y="448"/>
                </a:lnTo>
                <a:lnTo>
                  <a:pt x="120" y="499"/>
                </a:lnTo>
                <a:lnTo>
                  <a:pt x="189" y="532"/>
                </a:lnTo>
                <a:lnTo>
                  <a:pt x="266" y="544"/>
                </a:lnTo>
                <a:lnTo>
                  <a:pt x="342" y="535"/>
                </a:lnTo>
                <a:lnTo>
                  <a:pt x="413" y="503"/>
                </a:lnTo>
                <a:lnTo>
                  <a:pt x="472" y="454"/>
                </a:lnTo>
                <a:lnTo>
                  <a:pt x="515" y="390"/>
                </a:lnTo>
                <a:lnTo>
                  <a:pt x="538" y="316"/>
                </a:lnTo>
                <a:lnTo>
                  <a:pt x="540" y="240"/>
                </a:lnTo>
                <a:lnTo>
                  <a:pt x="520" y="165"/>
                </a:lnTo>
                <a:lnTo>
                  <a:pt x="480" y="99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267000" y="2597040"/>
            <a:ext cx="1800" cy="1952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267000" y="1515960"/>
            <a:ext cx="1800" cy="8604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H="1">
            <a:off x="3357360" y="1457280"/>
            <a:ext cx="1145880" cy="9525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H="1">
            <a:off x="2031840" y="2554200"/>
            <a:ext cx="1152720" cy="957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712440" y="3649680"/>
            <a:ext cx="1152360" cy="958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1949400" y="3687840"/>
            <a:ext cx="1800" cy="8618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1949400" y="1515600"/>
            <a:ext cx="1800" cy="19558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665600" y="1457280"/>
            <a:ext cx="1154160" cy="9590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986440" y="2554200"/>
            <a:ext cx="1152720" cy="957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308720" y="3654360"/>
            <a:ext cx="1148040" cy="954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7219800" y="3687840"/>
            <a:ext cx="1800" cy="8618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7219800" y="1515600"/>
            <a:ext cx="1800" cy="19558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5902200" y="2592000"/>
            <a:ext cx="1800" cy="19573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902200" y="1515960"/>
            <a:ext cx="1800" cy="8604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4584600" y="1494000"/>
            <a:ext cx="1800" cy="3078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rot="19200000">
            <a:off x="1008720" y="375552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rot="19200000">
            <a:off x="2309040" y="264312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rot="19200000">
            <a:off x="3615480" y="152352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348560" y="250812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348560" y="40845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678760" y="18986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678760" y="347508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077720" y="2962440"/>
            <a:ext cx="34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23480" y="2962440"/>
            <a:ext cx="34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8064000" y="2962440"/>
            <a:ext cx="34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258680" y="250812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311240" y="413712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966640" y="18986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966640" y="347508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rot="2340000">
            <a:off x="6311880" y="263340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rot="2340000">
            <a:off x="5029200" y="15537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rot="2340000">
            <a:off x="7636320" y="371592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517680" y="5613480"/>
            <a:ext cx="214200" cy="216000"/>
          </a:xfrm>
          <a:custGeom>
            <a:avLst/>
            <a:gdLst/>
            <a:ahLst/>
            <a:rect l="l" t="t" r="r" b="b"/>
            <a:pathLst>
              <a:path w="539" h="545">
                <a:moveTo>
                  <a:pt x="270" y="0"/>
                </a:moveTo>
                <a:lnTo>
                  <a:pt x="193" y="12"/>
                </a:lnTo>
                <a:lnTo>
                  <a:pt x="123" y="43"/>
                </a:lnTo>
                <a:lnTo>
                  <a:pt x="64" y="93"/>
                </a:lnTo>
                <a:lnTo>
                  <a:pt x="22" y="158"/>
                </a:lnTo>
                <a:lnTo>
                  <a:pt x="0" y="231"/>
                </a:lnTo>
                <a:lnTo>
                  <a:pt x="0" y="309"/>
                </a:lnTo>
                <a:lnTo>
                  <a:pt x="21" y="383"/>
                </a:lnTo>
                <a:lnTo>
                  <a:pt x="61" y="449"/>
                </a:lnTo>
                <a:lnTo>
                  <a:pt x="119" y="500"/>
                </a:lnTo>
                <a:lnTo>
                  <a:pt x="189" y="533"/>
                </a:lnTo>
                <a:lnTo>
                  <a:pt x="266" y="545"/>
                </a:lnTo>
                <a:lnTo>
                  <a:pt x="342" y="535"/>
                </a:lnTo>
                <a:lnTo>
                  <a:pt x="413" y="504"/>
                </a:lnTo>
                <a:lnTo>
                  <a:pt x="472" y="455"/>
                </a:lnTo>
                <a:lnTo>
                  <a:pt x="514" y="391"/>
                </a:lnTo>
                <a:lnTo>
                  <a:pt x="538" y="317"/>
                </a:lnTo>
                <a:lnTo>
                  <a:pt x="539" y="239"/>
                </a:lnTo>
                <a:lnTo>
                  <a:pt x="520" y="166"/>
                </a:lnTo>
                <a:lnTo>
                  <a:pt x="480" y="100"/>
                </a:lnTo>
                <a:lnTo>
                  <a:pt x="424" y="47"/>
                </a:lnTo>
                <a:lnTo>
                  <a:pt x="354" y="13"/>
                </a:lnTo>
                <a:lnTo>
                  <a:pt x="277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471920" y="5613480"/>
            <a:ext cx="214560" cy="216000"/>
          </a:xfrm>
          <a:custGeom>
            <a:avLst/>
            <a:gdLst/>
            <a:ahLst/>
            <a:rect l="l" t="t" r="r" b="b"/>
            <a:pathLst>
              <a:path w="540" h="545">
                <a:moveTo>
                  <a:pt x="270" y="0"/>
                </a:moveTo>
                <a:lnTo>
                  <a:pt x="194" y="12"/>
                </a:lnTo>
                <a:lnTo>
                  <a:pt x="124" y="43"/>
                </a:lnTo>
                <a:lnTo>
                  <a:pt x="65" y="93"/>
                </a:lnTo>
                <a:lnTo>
                  <a:pt x="23" y="158"/>
                </a:lnTo>
                <a:lnTo>
                  <a:pt x="0" y="231"/>
                </a:lnTo>
                <a:lnTo>
                  <a:pt x="0" y="309"/>
                </a:lnTo>
                <a:lnTo>
                  <a:pt x="21" y="383"/>
                </a:lnTo>
                <a:lnTo>
                  <a:pt x="62" y="449"/>
                </a:lnTo>
                <a:lnTo>
                  <a:pt x="120" y="500"/>
                </a:lnTo>
                <a:lnTo>
                  <a:pt x="190" y="533"/>
                </a:lnTo>
                <a:lnTo>
                  <a:pt x="266" y="545"/>
                </a:lnTo>
                <a:lnTo>
                  <a:pt x="343" y="535"/>
                </a:lnTo>
                <a:lnTo>
                  <a:pt x="414" y="504"/>
                </a:lnTo>
                <a:lnTo>
                  <a:pt x="473" y="455"/>
                </a:lnTo>
                <a:lnTo>
                  <a:pt x="515" y="391"/>
                </a:lnTo>
                <a:lnTo>
                  <a:pt x="539" y="317"/>
                </a:lnTo>
                <a:lnTo>
                  <a:pt x="540" y="239"/>
                </a:lnTo>
                <a:lnTo>
                  <a:pt x="520" y="166"/>
                </a:lnTo>
                <a:lnTo>
                  <a:pt x="481" y="100"/>
                </a:lnTo>
                <a:lnTo>
                  <a:pt x="424" y="47"/>
                </a:lnTo>
                <a:lnTo>
                  <a:pt x="355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8424720" y="5613480"/>
            <a:ext cx="214560" cy="216000"/>
          </a:xfrm>
          <a:custGeom>
            <a:avLst/>
            <a:gdLst/>
            <a:ahLst/>
            <a:rect l="l" t="t" r="r" b="b"/>
            <a:pathLst>
              <a:path w="540" h="545">
                <a:moveTo>
                  <a:pt x="270" y="0"/>
                </a:moveTo>
                <a:lnTo>
                  <a:pt x="194" y="12"/>
                </a:lnTo>
                <a:lnTo>
                  <a:pt x="124" y="43"/>
                </a:lnTo>
                <a:lnTo>
                  <a:pt x="65" y="93"/>
                </a:lnTo>
                <a:lnTo>
                  <a:pt x="22" y="158"/>
                </a:lnTo>
                <a:lnTo>
                  <a:pt x="0" y="231"/>
                </a:lnTo>
                <a:lnTo>
                  <a:pt x="0" y="309"/>
                </a:lnTo>
                <a:lnTo>
                  <a:pt x="21" y="383"/>
                </a:lnTo>
                <a:lnTo>
                  <a:pt x="62" y="449"/>
                </a:lnTo>
                <a:lnTo>
                  <a:pt x="120" y="500"/>
                </a:lnTo>
                <a:lnTo>
                  <a:pt x="190" y="533"/>
                </a:lnTo>
                <a:lnTo>
                  <a:pt x="266" y="545"/>
                </a:lnTo>
                <a:lnTo>
                  <a:pt x="342" y="535"/>
                </a:lnTo>
                <a:lnTo>
                  <a:pt x="414" y="504"/>
                </a:lnTo>
                <a:lnTo>
                  <a:pt x="473" y="455"/>
                </a:lnTo>
                <a:lnTo>
                  <a:pt x="515" y="391"/>
                </a:lnTo>
                <a:lnTo>
                  <a:pt x="539" y="317"/>
                </a:lnTo>
                <a:lnTo>
                  <a:pt x="540" y="239"/>
                </a:lnTo>
                <a:lnTo>
                  <a:pt x="520" y="166"/>
                </a:lnTo>
                <a:lnTo>
                  <a:pt x="481" y="100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8532720" y="2535120"/>
            <a:ext cx="1800" cy="3078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578480" y="2535120"/>
            <a:ext cx="1440" cy="3078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627120" y="2570040"/>
            <a:ext cx="15840" cy="3043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99720" y="3654360"/>
            <a:ext cx="34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360" y="3897360"/>
            <a:ext cx="529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708080" y="3654360"/>
            <a:ext cx="34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635720" y="3897360"/>
            <a:ext cx="529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8654760" y="3654360"/>
            <a:ext cx="34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8582040" y="3897360"/>
            <a:ext cx="529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rot="19200000">
            <a:off x="980280" y="44859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rot="19200000">
            <a:off x="1059120" y="4660920"/>
            <a:ext cx="70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4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rot="2340000">
            <a:off x="3692520" y="44762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rot="2340000">
            <a:off x="3460320" y="4676760"/>
            <a:ext cx="70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4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rot="19200000">
            <a:off x="4933080" y="44859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rot="19200000">
            <a:off x="5011920" y="4660920"/>
            <a:ext cx="70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5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rot="2340000">
            <a:off x="7645320" y="44762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rot="2340000">
            <a:off x="7413120" y="4676760"/>
            <a:ext cx="70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4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rot="2340000">
            <a:off x="1798560" y="28983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rot="2340000">
            <a:off x="1566360" y="3098880"/>
            <a:ext cx="70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4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rot="19200000">
            <a:off x="2874240" y="29084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rot="19200000">
            <a:off x="2953080" y="3083040"/>
            <a:ext cx="70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4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rot="2340000">
            <a:off x="5753160" y="28983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rot="2340000">
            <a:off x="5519160" y="3098880"/>
            <a:ext cx="70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4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rot="19200000">
            <a:off x="6827040" y="290808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4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rot="19200000">
            <a:off x="6905880" y="3083040"/>
            <a:ext cx="70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5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494080" y="3965400"/>
            <a:ext cx="21420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4" y="11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2"/>
                </a:lnTo>
                <a:lnTo>
                  <a:pt x="0" y="308"/>
                </a:lnTo>
                <a:lnTo>
                  <a:pt x="22" y="383"/>
                </a:lnTo>
                <a:lnTo>
                  <a:pt x="62" y="448"/>
                </a:lnTo>
                <a:lnTo>
                  <a:pt x="120" y="499"/>
                </a:lnTo>
                <a:lnTo>
                  <a:pt x="190" y="532"/>
                </a:lnTo>
                <a:lnTo>
                  <a:pt x="266" y="544"/>
                </a:lnTo>
                <a:lnTo>
                  <a:pt x="343" y="535"/>
                </a:lnTo>
                <a:lnTo>
                  <a:pt x="414" y="504"/>
                </a:lnTo>
                <a:lnTo>
                  <a:pt x="473" y="454"/>
                </a:lnTo>
                <a:lnTo>
                  <a:pt x="515" y="390"/>
                </a:lnTo>
                <a:lnTo>
                  <a:pt x="539" y="317"/>
                </a:lnTo>
                <a:lnTo>
                  <a:pt x="540" y="240"/>
                </a:lnTo>
                <a:lnTo>
                  <a:pt x="521" y="165"/>
                </a:lnTo>
                <a:lnTo>
                  <a:pt x="481" y="99"/>
                </a:lnTo>
                <a:lnTo>
                  <a:pt x="424" y="47"/>
                </a:lnTo>
                <a:lnTo>
                  <a:pt x="355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448320" y="3965400"/>
            <a:ext cx="21456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4" y="11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2" y="448"/>
                </a:lnTo>
                <a:lnTo>
                  <a:pt x="120" y="499"/>
                </a:lnTo>
                <a:lnTo>
                  <a:pt x="190" y="532"/>
                </a:lnTo>
                <a:lnTo>
                  <a:pt x="266" y="544"/>
                </a:lnTo>
                <a:lnTo>
                  <a:pt x="343" y="535"/>
                </a:lnTo>
                <a:lnTo>
                  <a:pt x="414" y="504"/>
                </a:lnTo>
                <a:lnTo>
                  <a:pt x="473" y="454"/>
                </a:lnTo>
                <a:lnTo>
                  <a:pt x="515" y="390"/>
                </a:lnTo>
                <a:lnTo>
                  <a:pt x="539" y="317"/>
                </a:lnTo>
                <a:lnTo>
                  <a:pt x="540" y="240"/>
                </a:lnTo>
                <a:lnTo>
                  <a:pt x="520" y="165"/>
                </a:lnTo>
                <a:lnTo>
                  <a:pt x="481" y="99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H="1" flipV="1">
            <a:off x="6638760" y="4143240"/>
            <a:ext cx="1810080" cy="1508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 flipV="1">
            <a:off x="4660560" y="2495520"/>
            <a:ext cx="1811160" cy="1509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V="1">
            <a:off x="4660920" y="4143240"/>
            <a:ext cx="1811160" cy="1508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V="1">
            <a:off x="6638760" y="2495520"/>
            <a:ext cx="1810080" cy="1509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708120" y="2495520"/>
            <a:ext cx="1811160" cy="1509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684520" y="4143240"/>
            <a:ext cx="1811160" cy="1508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flipH="1">
            <a:off x="2684160" y="2495520"/>
            <a:ext cx="1811160" cy="1509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707760" y="4143240"/>
            <a:ext cx="1811160" cy="1508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lements - elev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23800" y="2332080"/>
            <a:ext cx="214560" cy="216000"/>
          </a:xfrm>
          <a:custGeom>
            <a:avLst/>
            <a:gdLst/>
            <a:ahLst/>
            <a:rect l="l" t="t" r="r" b="b"/>
            <a:pathLst>
              <a:path w="539" h="543">
                <a:moveTo>
                  <a:pt x="270" y="0"/>
                </a:moveTo>
                <a:lnTo>
                  <a:pt x="193" y="10"/>
                </a:lnTo>
                <a:lnTo>
                  <a:pt x="123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1" y="447"/>
                </a:lnTo>
                <a:lnTo>
                  <a:pt x="119" y="499"/>
                </a:lnTo>
                <a:lnTo>
                  <a:pt x="189" y="532"/>
                </a:lnTo>
                <a:lnTo>
                  <a:pt x="266" y="543"/>
                </a:lnTo>
                <a:lnTo>
                  <a:pt x="342" y="534"/>
                </a:lnTo>
                <a:lnTo>
                  <a:pt x="413" y="504"/>
                </a:lnTo>
                <a:lnTo>
                  <a:pt x="472" y="454"/>
                </a:lnTo>
                <a:lnTo>
                  <a:pt x="514" y="389"/>
                </a:lnTo>
                <a:lnTo>
                  <a:pt x="538" y="316"/>
                </a:lnTo>
                <a:lnTo>
                  <a:pt x="539" y="239"/>
                </a:lnTo>
                <a:lnTo>
                  <a:pt x="520" y="164"/>
                </a:lnTo>
                <a:lnTo>
                  <a:pt x="480" y="98"/>
                </a:lnTo>
                <a:lnTo>
                  <a:pt x="424" y="47"/>
                </a:lnTo>
                <a:lnTo>
                  <a:pt x="354" y="13"/>
                </a:lnTo>
                <a:lnTo>
                  <a:pt x="277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478400" y="2332080"/>
            <a:ext cx="21420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4" y="10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3"/>
                </a:lnTo>
                <a:lnTo>
                  <a:pt x="343" y="534"/>
                </a:lnTo>
                <a:lnTo>
                  <a:pt x="414" y="504"/>
                </a:lnTo>
                <a:lnTo>
                  <a:pt x="473" y="454"/>
                </a:lnTo>
                <a:lnTo>
                  <a:pt x="515" y="389"/>
                </a:lnTo>
                <a:lnTo>
                  <a:pt x="539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8"/>
                </a:lnTo>
                <a:lnTo>
                  <a:pt x="424" y="47"/>
                </a:lnTo>
                <a:lnTo>
                  <a:pt x="355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8431200" y="2332080"/>
            <a:ext cx="21420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4" y="10"/>
                </a:lnTo>
                <a:lnTo>
                  <a:pt x="124" y="42"/>
                </a:lnTo>
                <a:lnTo>
                  <a:pt x="65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3"/>
                </a:lnTo>
                <a:lnTo>
                  <a:pt x="342" y="534"/>
                </a:lnTo>
                <a:lnTo>
                  <a:pt x="414" y="504"/>
                </a:lnTo>
                <a:lnTo>
                  <a:pt x="473" y="454"/>
                </a:lnTo>
                <a:lnTo>
                  <a:pt x="515" y="389"/>
                </a:lnTo>
                <a:lnTo>
                  <a:pt x="539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8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7113600" y="2332080"/>
            <a:ext cx="214200" cy="216000"/>
          </a:xfrm>
          <a:custGeom>
            <a:avLst/>
            <a:gdLst/>
            <a:ahLst/>
            <a:rect l="l" t="t" r="r" b="b"/>
            <a:pathLst>
              <a:path w="539" h="543">
                <a:moveTo>
                  <a:pt x="269" y="0"/>
                </a:moveTo>
                <a:lnTo>
                  <a:pt x="193" y="10"/>
                </a:lnTo>
                <a:lnTo>
                  <a:pt x="123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1" y="447"/>
                </a:lnTo>
                <a:lnTo>
                  <a:pt x="119" y="499"/>
                </a:lnTo>
                <a:lnTo>
                  <a:pt x="189" y="532"/>
                </a:lnTo>
                <a:lnTo>
                  <a:pt x="265" y="543"/>
                </a:lnTo>
                <a:lnTo>
                  <a:pt x="342" y="534"/>
                </a:lnTo>
                <a:lnTo>
                  <a:pt x="413" y="504"/>
                </a:lnTo>
                <a:lnTo>
                  <a:pt x="472" y="454"/>
                </a:lnTo>
                <a:lnTo>
                  <a:pt x="514" y="389"/>
                </a:lnTo>
                <a:lnTo>
                  <a:pt x="538" y="316"/>
                </a:lnTo>
                <a:lnTo>
                  <a:pt x="539" y="239"/>
                </a:lnTo>
                <a:lnTo>
                  <a:pt x="520" y="164"/>
                </a:lnTo>
                <a:lnTo>
                  <a:pt x="480" y="98"/>
                </a:lnTo>
                <a:lnTo>
                  <a:pt x="423" y="47"/>
                </a:lnTo>
                <a:lnTo>
                  <a:pt x="354" y="13"/>
                </a:lnTo>
                <a:lnTo>
                  <a:pt x="277" y="0"/>
                </a:lnTo>
                <a:lnTo>
                  <a:pt x="26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96000" y="2332080"/>
            <a:ext cx="21420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3" y="10"/>
                </a:lnTo>
                <a:lnTo>
                  <a:pt x="124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3"/>
                </a:lnTo>
                <a:lnTo>
                  <a:pt x="342" y="534"/>
                </a:lnTo>
                <a:lnTo>
                  <a:pt x="413" y="504"/>
                </a:lnTo>
                <a:lnTo>
                  <a:pt x="473" y="454"/>
                </a:lnTo>
                <a:lnTo>
                  <a:pt x="515" y="389"/>
                </a:lnTo>
                <a:lnTo>
                  <a:pt x="538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8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692600" y="244008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327800" y="2440080"/>
            <a:ext cx="110196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010200" y="2440080"/>
            <a:ext cx="110196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159000" y="2332080"/>
            <a:ext cx="21456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3" y="10"/>
                </a:lnTo>
                <a:lnTo>
                  <a:pt x="124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89" y="532"/>
                </a:lnTo>
                <a:lnTo>
                  <a:pt x="266" y="543"/>
                </a:lnTo>
                <a:lnTo>
                  <a:pt x="342" y="534"/>
                </a:lnTo>
                <a:lnTo>
                  <a:pt x="413" y="504"/>
                </a:lnTo>
                <a:lnTo>
                  <a:pt x="472" y="454"/>
                </a:lnTo>
                <a:lnTo>
                  <a:pt x="515" y="389"/>
                </a:lnTo>
                <a:lnTo>
                  <a:pt x="538" y="316"/>
                </a:lnTo>
                <a:lnTo>
                  <a:pt x="540" y="239"/>
                </a:lnTo>
                <a:lnTo>
                  <a:pt x="520" y="164"/>
                </a:lnTo>
                <a:lnTo>
                  <a:pt x="480" y="98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841400" y="2332080"/>
            <a:ext cx="21456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4" y="10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3"/>
                </a:lnTo>
                <a:lnTo>
                  <a:pt x="343" y="534"/>
                </a:lnTo>
                <a:lnTo>
                  <a:pt x="414" y="504"/>
                </a:lnTo>
                <a:lnTo>
                  <a:pt x="473" y="454"/>
                </a:lnTo>
                <a:lnTo>
                  <a:pt x="515" y="389"/>
                </a:lnTo>
                <a:lnTo>
                  <a:pt x="539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8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739800" y="244008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375000" y="244008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057400" y="244008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127880" y="20210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446920" y="20210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764880" y="20210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082480" y="20210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400080" y="20210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7717680" y="20210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09" name="EX2-as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11" name="EX2-moments" descr=""/>
          <p:cNvPicPr/>
          <p:nvPr/>
        </p:nvPicPr>
        <p:blipFill>
          <a:blip r:embed="rId1"/>
          <a:stretch/>
        </p:blipFill>
        <p:spPr>
          <a:xfrm>
            <a:off x="0" y="19080"/>
            <a:ext cx="9144000" cy="683892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13" name="EX2-disps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15" name="EX2-grphs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31T15:01:41Z</dcterms:created>
  <dc:creator>Andrew Crowley</dc:creator>
  <dc:description/>
  <dc:language>en-US</dc:language>
  <cp:lastModifiedBy>Andrew Crowley</cp:lastModifiedBy>
  <cp:lastPrinted>1999-02-12T12:33:41Z</cp:lastPrinted>
  <dcterms:modified xsi:type="dcterms:W3CDTF">2000-04-02T22:08:56Z</dcterms:modified>
  <cp:revision>10</cp:revision>
  <dc:subject/>
  <dc:title>CIS/2 Implementation Workshop III,  3-7 April 2000, Ascot</dc:title>
</cp:coreProperties>
</file>